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1.jpeg" ContentType="image/jpeg"/>
  <Override PartName="/ppt/media/image17.jpeg" ContentType="image/jpeg"/>
  <Override PartName="/ppt/media/image14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2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1FD-BE71-441B-852D-A20D534E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7EC-C805-44A7-86FE-3A66E41C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1D7-1006-45C9-B536-F11769B0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625-D12D-48E1-94CD-27F131B2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DDB-1C67-4330-A50D-41ADE13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83A-67FF-4CE2-9CA3-22E91C4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90A-B8D7-420A-8F75-1774ECD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E27-F057-42FB-A24D-57FF10B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1C1-8FD7-4616-AE2D-B15A0E6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832-CEA8-4045-A68A-C10A2FB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01F-D8D2-4A22-AF93-E022EDA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3E8-B67C-4F84-82AD-68F5A2C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9397-375E-40CF-92AB-A8DAC0712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28000" y="6453360"/>
            <a:ext cx="1012680" cy="3315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93600" y="6381720"/>
            <a:ext cx="59076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81800" y="6178680"/>
            <a:ext cx="18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RAFT to be vali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5.wmf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image" Target="../media/image12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3.gif"/><Relationship Id="rId2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5.wmf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4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5.wmf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5.wmf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4.gif"/><Relationship Id="rId14" Type="http://schemas.openxmlformats.org/officeDocument/2006/relationships/image" Target="../media/image13.gif"/><Relationship Id="rId1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91856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stemul </a:t>
            </a: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European de Credite pentru formarea profesională</a:t>
            </a:r>
            <a:br>
              <a:rPr sz="3200"/>
            </a:b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— ECVET —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99280" cy="129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08720" y="6021360"/>
            <a:ext cx="183528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333399"/>
                </a:solidFill>
                <a:latin typeface="Arial"/>
              </a:rPr>
              <a:t>Prezentare adaptată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333399"/>
                </a:solidFill>
                <a:latin typeface="Arial"/>
              </a:rPr>
              <a:t>de CND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65720"/>
            <a:ext cx="10429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224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 flipH="1">
            <a:off x="2050920" y="3429000"/>
            <a:ext cx="841680" cy="9208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2411280" y="4581360"/>
            <a:ext cx="1513080" cy="649440"/>
            <a:chOff x="2411280" y="4581360"/>
            <a:chExt cx="1513080" cy="649440"/>
          </a:xfrm>
        </p:grpSpPr>
        <p:sp>
          <p:nvSpPr>
            <p:cNvPr id="234" name=""/>
            <p:cNvSpPr/>
            <p:nvPr/>
          </p:nvSpPr>
          <p:spPr>
            <a:xfrm>
              <a:off x="2411280" y="4941720"/>
              <a:ext cx="720720" cy="28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3640" y="4941720"/>
              <a:ext cx="720720" cy="289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0200" y="4581360"/>
              <a:ext cx="720720" cy="28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187280" y="4581360"/>
            <a:ext cx="936720" cy="287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4581360"/>
            <a:ext cx="504720" cy="287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5280" y="4221000"/>
            <a:ext cx="1225440" cy="289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4221000"/>
            <a:ext cx="720720" cy="289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4221000"/>
            <a:ext cx="431640" cy="287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3860640"/>
            <a:ext cx="578160" cy="289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360" y="3860640"/>
            <a:ext cx="934920" cy="289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3860640"/>
            <a:ext cx="863640" cy="289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ECVET: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26920" y="1197000"/>
            <a:ext cx="4319640" cy="3168720"/>
          </a:xfrm>
          <a:prstGeom prst="verticalScroll">
            <a:avLst>
              <a:gd name="adj" fmla="val 1257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Contextul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A</a:t>
            </a:r>
            <a:br>
              <a:rPr sz="2400"/>
            </a:b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Calificare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— </a:t>
            </a:r>
            <a:br>
              <a:rPr sz="2400"/>
            </a:b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numai dacă instituţia autorizată din contextul A validează L.O. dobândite în contextul B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88000" y="49417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33"/>
                </a:solidFill>
                <a:latin typeface="Arial"/>
              </a:rPr>
              <a:t>NB! L.O. </a:t>
            </a:r>
            <a:r>
              <a:rPr b="1" lang="ro-RO" sz="1800" spc="-1" strike="noStrike">
                <a:solidFill>
                  <a:srgbClr val="996633"/>
                </a:solidFill>
                <a:latin typeface="Arial"/>
              </a:rPr>
              <a:t>dobândite sunt acum integrate ca parte a calificării lui/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58240" y="3639600"/>
            <a:ext cx="4368600" cy="2747520"/>
            <a:chOff x="1758240" y="3639600"/>
            <a:chExt cx="4368600" cy="2747520"/>
          </a:xfrm>
        </p:grpSpPr>
        <p:grpSp>
          <p:nvGrpSpPr>
            <p:cNvPr id="249" name=""/>
            <p:cNvGrpSpPr/>
            <p:nvPr/>
          </p:nvGrpSpPr>
          <p:grpSpPr>
            <a:xfrm>
              <a:off x="1921680" y="3791520"/>
              <a:ext cx="4205160" cy="2575800"/>
              <a:chOff x="1921680" y="3791520"/>
              <a:chExt cx="4205160" cy="25758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1921680" y="3791520"/>
                <a:ext cx="4205160" cy="2574360"/>
                <a:chOff x="1921680" y="3791520"/>
                <a:chExt cx="4205160" cy="2574360"/>
              </a:xfrm>
            </p:grpSpPr>
            <p:sp>
              <p:nvSpPr>
                <p:cNvPr id="251" name=""/>
                <p:cNvSpPr/>
                <p:nvPr/>
              </p:nvSpPr>
              <p:spPr>
                <a:xfrm rot="1356600">
                  <a:off x="2209320" y="4079520"/>
                  <a:ext cx="1873080" cy="1871640"/>
                </a:xfrm>
                <a:prstGeom prst="ellipse">
                  <a:avLst/>
                </a:prstGeom>
                <a:noFill/>
                <a:ln w="13968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1356600">
                  <a:off x="3854880" y="5646600"/>
                  <a:ext cx="2305080" cy="287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 rot="1356600">
                <a:off x="4033800" y="5681880"/>
                <a:ext cx="2160360" cy="73080"/>
              </a:xfrm>
              <a:prstGeom prst="rect">
                <a:avLst/>
              </a:prstGeom>
              <a:solidFill>
                <a:srgbClr val="d4a9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356600">
                <a:off x="3950640" y="5881320"/>
                <a:ext cx="2160360" cy="730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2920" y="5337000"/>
                <a:ext cx="1994040" cy="830520"/>
              </a:xfrm>
              <a:prstGeom prst="line">
                <a:avLst/>
              </a:prstGeom>
              <a:ln w="57240">
                <a:solidFill>
                  <a:srgbClr val="ecd8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rot="1629600">
              <a:off x="2124000" y="4005360"/>
              <a:ext cx="2016360" cy="2016000"/>
            </a:xfrm>
            <a:prstGeom prst="blockArc">
              <a:avLst>
                <a:gd name="adj1" fmla="val 11990897"/>
                <a:gd name="adj2" fmla="val 20409103"/>
                <a:gd name="adj3" fmla="val 917"/>
              </a:avLst>
            </a:prstGeom>
            <a:solidFill>
              <a:srgbClr val="ecd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2570600">
              <a:off x="2123640" y="4005000"/>
              <a:ext cx="2016360" cy="2016000"/>
            </a:xfrm>
            <a:prstGeom prst="blockArc">
              <a:avLst>
                <a:gd name="adj1" fmla="val 10702814"/>
                <a:gd name="adj2" fmla="val 97186"/>
                <a:gd name="adj3" fmla="val 1356"/>
              </a:avLst>
            </a:prstGeom>
            <a:solidFill>
              <a:srgbClr val="593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" descr="italy_fl_md_clr.gif"/>
          <p:cNvPicPr/>
          <p:nvPr/>
        </p:nvPicPr>
        <p:blipFill>
          <a:blip r:embed="rId21"/>
          <a:stretch/>
        </p:blipFill>
        <p:spPr>
          <a:xfrm>
            <a:off x="3276720" y="1989000"/>
            <a:ext cx="71892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1628640"/>
            <a:ext cx="2376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ul de învăţare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CVET &amp; LLL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: “drumuri” către o calif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4869000"/>
            <a:ext cx="5832360" cy="865080"/>
          </a:xfrm>
          <a:custGeom>
            <a:avLst/>
            <a:gdLst>
              <a:gd name="textAreaLeft" fmla="*/ 911160 w 5832360"/>
              <a:gd name="textAreaRight" fmla="*/ 5121000 w 5832360"/>
              <a:gd name="textAreaTop" fmla="*/ 88560 h 865080"/>
              <a:gd name="textAreaBottom" fmla="*/ 7765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219"/>
                </a:moveTo>
                <a:lnTo>
                  <a:pt x="18284" y="2219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381"/>
                </a:lnTo>
                <a:lnTo>
                  <a:pt x="3375" y="19381"/>
                </a:lnTo>
                <a:close/>
              </a:path>
              <a:path w="21600" h="21600">
                <a:moveTo>
                  <a:pt x="0" y="2219"/>
                </a:moveTo>
                <a:lnTo>
                  <a:pt x="675" y="2219"/>
                </a:lnTo>
                <a:lnTo>
                  <a:pt x="675" y="19381"/>
                </a:lnTo>
                <a:lnTo>
                  <a:pt x="0" y="19381"/>
                </a:lnTo>
                <a:close/>
              </a:path>
              <a:path w="21600" h="21600">
                <a:moveTo>
                  <a:pt x="1350" y="2219"/>
                </a:moveTo>
                <a:lnTo>
                  <a:pt x="2700" y="2219"/>
                </a:lnTo>
                <a:lnTo>
                  <a:pt x="2700" y="19381"/>
                </a:lnTo>
                <a:lnTo>
                  <a:pt x="1350" y="19381"/>
                </a:lnTo>
                <a:close/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Sau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ombinarea contextelor menţion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706840"/>
            <a:ext cx="5832360" cy="865080"/>
          </a:xfrm>
          <a:custGeom>
            <a:avLst/>
            <a:gdLst>
              <a:gd name="textAreaLeft" fmla="*/ 911160 w 5832360"/>
              <a:gd name="textAreaRight" fmla="*/ 5150520 w 5832360"/>
              <a:gd name="textAreaTop" fmla="*/ 102960 h 865080"/>
              <a:gd name="textAreaBottom" fmla="*/ 7621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576"/>
                </a:moveTo>
                <a:lnTo>
                  <a:pt x="18284" y="2576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024"/>
                </a:lnTo>
                <a:lnTo>
                  <a:pt x="3375" y="19024"/>
                </a:lnTo>
                <a:close/>
              </a:path>
              <a:path w="21600" h="21600">
                <a:moveTo>
                  <a:pt x="0" y="2576"/>
                </a:moveTo>
                <a:lnTo>
                  <a:pt x="675" y="2576"/>
                </a:lnTo>
                <a:lnTo>
                  <a:pt x="675" y="19024"/>
                </a:lnTo>
                <a:lnTo>
                  <a:pt x="0" y="19024"/>
                </a:lnTo>
                <a:close/>
              </a:path>
              <a:path w="21600" h="21600">
                <a:moveTo>
                  <a:pt x="1350" y="2576"/>
                </a:moveTo>
                <a:lnTo>
                  <a:pt x="2700" y="2576"/>
                </a:lnTo>
                <a:lnTo>
                  <a:pt x="2700" y="19024"/>
                </a:lnTo>
                <a:lnTo>
                  <a:pt x="1350" y="19024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ontext de învăţare “la locul de muncă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3787920"/>
            <a:ext cx="5832360" cy="865080"/>
          </a:xfrm>
          <a:custGeom>
            <a:avLst/>
            <a:gdLst>
              <a:gd name="textAreaLeft" fmla="*/ 911160 w 5832360"/>
              <a:gd name="textAreaRight" fmla="*/ 5116680 w 5832360"/>
              <a:gd name="textAreaTop" fmla="*/ 87120 h 865080"/>
              <a:gd name="textAreaBottom" fmla="*/ 77796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180"/>
                </a:moveTo>
                <a:lnTo>
                  <a:pt x="18278" y="2180"/>
                </a:lnTo>
                <a:lnTo>
                  <a:pt x="18278" y="0"/>
                </a:lnTo>
                <a:lnTo>
                  <a:pt x="21600" y="10800"/>
                </a:lnTo>
                <a:lnTo>
                  <a:pt x="18278" y="21600"/>
                </a:lnTo>
                <a:lnTo>
                  <a:pt x="18278" y="19420"/>
                </a:lnTo>
                <a:lnTo>
                  <a:pt x="3375" y="19420"/>
                </a:lnTo>
                <a:close/>
              </a:path>
              <a:path w="21600" h="21600">
                <a:moveTo>
                  <a:pt x="0" y="2180"/>
                </a:moveTo>
                <a:lnTo>
                  <a:pt x="675" y="2180"/>
                </a:lnTo>
                <a:lnTo>
                  <a:pt x="675" y="19420"/>
                </a:lnTo>
                <a:lnTo>
                  <a:pt x="0" y="19420"/>
                </a:lnTo>
                <a:close/>
              </a:path>
              <a:path w="21600" h="21600">
                <a:moveTo>
                  <a:pt x="1350" y="2180"/>
                </a:moveTo>
                <a:lnTo>
                  <a:pt x="2700" y="2180"/>
                </a:lnTo>
                <a:lnTo>
                  <a:pt x="2700" y="19420"/>
                </a:lnTo>
                <a:lnTo>
                  <a:pt x="1350" y="1942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Orice experienţă relevan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de via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1557360"/>
            <a:ext cx="5832360" cy="934920"/>
          </a:xfrm>
          <a:prstGeom prst="rightArrow">
            <a:avLst>
              <a:gd name="adj1" fmla="val 74194"/>
              <a:gd name="adj2" fmla="val 9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Context academic 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121600" y="4506840"/>
            <a:ext cx="241200" cy="293040"/>
            <a:chOff x="8121600" y="4506840"/>
            <a:chExt cx="241200" cy="293040"/>
          </a:xfrm>
        </p:grpSpPr>
        <p:sp>
          <p:nvSpPr>
            <p:cNvPr id="266" name=""/>
            <p:cNvSpPr/>
            <p:nvPr/>
          </p:nvSpPr>
          <p:spPr>
            <a:xfrm flipH="1" flipV="1">
              <a:off x="8121600" y="4559400"/>
              <a:ext cx="241200" cy="2401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21600" y="4506840"/>
              <a:ext cx="24120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588720" y="1413360"/>
            <a:ext cx="1178640" cy="1179000"/>
            <a:chOff x="6588720" y="1413360"/>
            <a:chExt cx="1178640" cy="1179000"/>
          </a:xfrm>
        </p:grpSpPr>
        <p:sp>
          <p:nvSpPr>
            <p:cNvPr id="269" name=""/>
            <p:cNvSpPr/>
            <p:nvPr/>
          </p:nvSpPr>
          <p:spPr>
            <a:xfrm>
              <a:off x="6836400" y="1660320"/>
              <a:ext cx="838080" cy="838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7115040" y="1413360"/>
              <a:ext cx="279000" cy="340920"/>
              <a:chOff x="7115040" y="1413360"/>
              <a:chExt cx="279000" cy="340920"/>
            </a:xfrm>
          </p:grpSpPr>
          <p:sp>
            <p:nvSpPr>
              <p:cNvPr id="271" name=""/>
              <p:cNvSpPr/>
              <p:nvPr/>
            </p:nvSpPr>
            <p:spPr>
              <a:xfrm rot="10800000">
                <a:off x="7115040" y="141336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800000">
                <a:off x="7115040" y="153684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426800" y="1940040"/>
              <a:ext cx="340560" cy="279360"/>
              <a:chOff x="7426800" y="1940040"/>
              <a:chExt cx="340560" cy="279360"/>
            </a:xfrm>
          </p:grpSpPr>
          <p:sp>
            <p:nvSpPr>
              <p:cNvPr id="274" name=""/>
              <p:cNvSpPr/>
              <p:nvPr/>
            </p:nvSpPr>
            <p:spPr>
              <a:xfrm flipH="1" flipV="1" rot="5400000">
                <a:off x="7426440" y="193968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5400000">
                <a:off x="7518960" y="197100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588720" y="1940040"/>
              <a:ext cx="340560" cy="279360"/>
              <a:chOff x="6588720" y="1940040"/>
              <a:chExt cx="340560" cy="279360"/>
            </a:xfrm>
          </p:grpSpPr>
          <p:sp>
            <p:nvSpPr>
              <p:cNvPr id="277" name=""/>
              <p:cNvSpPr/>
              <p:nvPr/>
            </p:nvSpPr>
            <p:spPr>
              <a:xfrm flipH="1" flipV="1" rot="5400000">
                <a:off x="6588360" y="193968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400000">
                <a:off x="6680880" y="197100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115040" y="2251800"/>
              <a:ext cx="279360" cy="340560"/>
              <a:chOff x="7115040" y="2251800"/>
              <a:chExt cx="279360" cy="340560"/>
            </a:xfrm>
          </p:grpSpPr>
          <p:sp>
            <p:nvSpPr>
              <p:cNvPr id="280" name=""/>
              <p:cNvSpPr/>
              <p:nvPr/>
            </p:nvSpPr>
            <p:spPr>
              <a:xfrm flipH="1" flipV="1" rot="10800000">
                <a:off x="7115040" y="225144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0800000">
                <a:off x="7115040" y="237492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6588720" y="4653360"/>
            <a:ext cx="1178640" cy="1179000"/>
            <a:chOff x="6588720" y="4653360"/>
            <a:chExt cx="1178640" cy="1179000"/>
          </a:xfrm>
        </p:grpSpPr>
        <p:sp>
          <p:nvSpPr>
            <p:cNvPr id="283" name=""/>
            <p:cNvSpPr/>
            <p:nvPr/>
          </p:nvSpPr>
          <p:spPr>
            <a:xfrm>
              <a:off x="6836400" y="4900320"/>
              <a:ext cx="838080" cy="83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115040" y="4653360"/>
              <a:ext cx="279000" cy="340920"/>
              <a:chOff x="7115040" y="4653360"/>
              <a:chExt cx="279000" cy="340920"/>
            </a:xfrm>
          </p:grpSpPr>
          <p:sp>
            <p:nvSpPr>
              <p:cNvPr id="285" name=""/>
              <p:cNvSpPr/>
              <p:nvPr/>
            </p:nvSpPr>
            <p:spPr>
              <a:xfrm rot="10800000">
                <a:off x="7115040" y="465336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7115040" y="477684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7426800" y="5180040"/>
              <a:ext cx="340560" cy="279360"/>
              <a:chOff x="7426800" y="5180040"/>
              <a:chExt cx="340560" cy="279360"/>
            </a:xfrm>
          </p:grpSpPr>
          <p:sp>
            <p:nvSpPr>
              <p:cNvPr id="288" name=""/>
              <p:cNvSpPr/>
              <p:nvPr/>
            </p:nvSpPr>
            <p:spPr>
              <a:xfrm flipH="1" flipV="1" rot="5400000">
                <a:off x="7426440" y="5179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7518960" y="5211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588720" y="5180040"/>
              <a:ext cx="340560" cy="279360"/>
              <a:chOff x="6588720" y="5180040"/>
              <a:chExt cx="340560" cy="279360"/>
            </a:xfrm>
          </p:grpSpPr>
          <p:sp>
            <p:nvSpPr>
              <p:cNvPr id="291" name=""/>
              <p:cNvSpPr/>
              <p:nvPr/>
            </p:nvSpPr>
            <p:spPr>
              <a:xfrm flipH="1" flipV="1" rot="5400000">
                <a:off x="6588360" y="5179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6680880" y="5211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115040" y="5491800"/>
              <a:ext cx="279360" cy="340560"/>
              <a:chOff x="7115040" y="5491800"/>
              <a:chExt cx="279360" cy="340560"/>
            </a:xfrm>
          </p:grpSpPr>
          <p:sp>
            <p:nvSpPr>
              <p:cNvPr id="294" name=""/>
              <p:cNvSpPr/>
              <p:nvPr/>
            </p:nvSpPr>
            <p:spPr>
              <a:xfrm flipH="1" flipV="1" rot="10800000">
                <a:off x="7115040" y="549144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0800000">
                <a:off x="7115040" y="561492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6588720" y="2492640"/>
            <a:ext cx="1178640" cy="1179360"/>
            <a:chOff x="6588720" y="2492640"/>
            <a:chExt cx="1178640" cy="1179360"/>
          </a:xfrm>
        </p:grpSpPr>
        <p:sp>
          <p:nvSpPr>
            <p:cNvPr id="297" name=""/>
            <p:cNvSpPr/>
            <p:nvPr/>
          </p:nvSpPr>
          <p:spPr>
            <a:xfrm>
              <a:off x="6836040" y="2739960"/>
              <a:ext cx="838440" cy="838440"/>
            </a:xfrm>
            <a:prstGeom prst="rect">
              <a:avLst/>
            </a:prstGeom>
            <a:solidFill>
              <a:srgbClr val="593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7115400" y="2492640"/>
              <a:ext cx="279360" cy="340920"/>
              <a:chOff x="7115400" y="2492640"/>
              <a:chExt cx="279360" cy="340920"/>
            </a:xfrm>
          </p:grpSpPr>
          <p:sp>
            <p:nvSpPr>
              <p:cNvPr id="299" name=""/>
              <p:cNvSpPr/>
              <p:nvPr/>
            </p:nvSpPr>
            <p:spPr>
              <a:xfrm rot="10800000">
                <a:off x="7115400" y="2492640"/>
                <a:ext cx="27936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0800000">
                <a:off x="7115400" y="2616120"/>
                <a:ext cx="27936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426800" y="3019320"/>
              <a:ext cx="340560" cy="279360"/>
              <a:chOff x="7426800" y="3019320"/>
              <a:chExt cx="340560" cy="279360"/>
            </a:xfrm>
          </p:grpSpPr>
          <p:sp>
            <p:nvSpPr>
              <p:cNvPr id="302" name=""/>
              <p:cNvSpPr/>
              <p:nvPr/>
            </p:nvSpPr>
            <p:spPr>
              <a:xfrm flipH="1" flipV="1" rot="5400000">
                <a:off x="7426440" y="301896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7518960" y="305028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588720" y="3019320"/>
              <a:ext cx="340560" cy="279360"/>
              <a:chOff x="6588720" y="3019320"/>
              <a:chExt cx="340560" cy="279360"/>
            </a:xfrm>
          </p:grpSpPr>
          <p:sp>
            <p:nvSpPr>
              <p:cNvPr id="305" name=""/>
              <p:cNvSpPr/>
              <p:nvPr/>
            </p:nvSpPr>
            <p:spPr>
              <a:xfrm flipH="1" flipV="1" rot="5400000">
                <a:off x="6588360" y="301896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5400000">
                <a:off x="6680880" y="305028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115400" y="3330000"/>
              <a:ext cx="279360" cy="342000"/>
              <a:chOff x="7115400" y="3330000"/>
              <a:chExt cx="279360" cy="342000"/>
            </a:xfrm>
          </p:grpSpPr>
          <p:sp>
            <p:nvSpPr>
              <p:cNvPr id="308" name=""/>
              <p:cNvSpPr/>
              <p:nvPr/>
            </p:nvSpPr>
            <p:spPr>
              <a:xfrm flipH="1" flipV="1" rot="10800000">
                <a:off x="7115400" y="3329640"/>
                <a:ext cx="27936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800000">
                <a:off x="7115400" y="3454560"/>
                <a:ext cx="27936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6588720" y="3573720"/>
            <a:ext cx="1178640" cy="1179360"/>
            <a:chOff x="6588720" y="3573720"/>
            <a:chExt cx="1178640" cy="1179360"/>
          </a:xfrm>
        </p:grpSpPr>
        <p:sp>
          <p:nvSpPr>
            <p:cNvPr id="311" name=""/>
            <p:cNvSpPr/>
            <p:nvPr/>
          </p:nvSpPr>
          <p:spPr>
            <a:xfrm>
              <a:off x="6836400" y="3821040"/>
              <a:ext cx="838080" cy="838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115040" y="3573720"/>
              <a:ext cx="279000" cy="340920"/>
              <a:chOff x="7115040" y="3573720"/>
              <a:chExt cx="279000" cy="340920"/>
            </a:xfrm>
          </p:grpSpPr>
          <p:sp>
            <p:nvSpPr>
              <p:cNvPr id="313" name=""/>
              <p:cNvSpPr/>
              <p:nvPr/>
            </p:nvSpPr>
            <p:spPr>
              <a:xfrm rot="10800000">
                <a:off x="7115040" y="357372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0800000">
                <a:off x="7115040" y="369720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7426800" y="4100400"/>
              <a:ext cx="340560" cy="279360"/>
              <a:chOff x="7426800" y="4100400"/>
              <a:chExt cx="340560" cy="279360"/>
            </a:xfrm>
          </p:grpSpPr>
          <p:sp>
            <p:nvSpPr>
              <p:cNvPr id="316" name=""/>
              <p:cNvSpPr/>
              <p:nvPr/>
            </p:nvSpPr>
            <p:spPr>
              <a:xfrm flipH="1" flipV="1" rot="5400000">
                <a:off x="7426440" y="410004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5400000">
                <a:off x="7518960" y="413136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588720" y="4100400"/>
              <a:ext cx="340560" cy="279360"/>
              <a:chOff x="6588720" y="4100400"/>
              <a:chExt cx="340560" cy="279360"/>
            </a:xfrm>
          </p:grpSpPr>
          <p:sp>
            <p:nvSpPr>
              <p:cNvPr id="319" name=""/>
              <p:cNvSpPr/>
              <p:nvPr/>
            </p:nvSpPr>
            <p:spPr>
              <a:xfrm flipH="1" flipV="1" rot="5400000">
                <a:off x="6588360" y="410004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6680880" y="413136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115040" y="4412520"/>
              <a:ext cx="279360" cy="340560"/>
              <a:chOff x="7115040" y="4412520"/>
              <a:chExt cx="279360" cy="340560"/>
            </a:xfrm>
          </p:grpSpPr>
          <p:sp>
            <p:nvSpPr>
              <p:cNvPr id="322" name=""/>
              <p:cNvSpPr/>
              <p:nvPr/>
            </p:nvSpPr>
            <p:spPr>
              <a:xfrm flipH="1" flipV="1" rot="10800000">
                <a:off x="7115040" y="441216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0800000">
                <a:off x="7115040" y="453564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588000" y="2708280"/>
            <a:ext cx="2232000" cy="2158920"/>
          </a:xfrm>
          <a:prstGeom prst="rect">
            <a:avLst/>
          </a:prstGeom>
          <a:solidFill>
            <a:srgbClr val="99ccff"/>
          </a:solidFill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CVET &amp; LLL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: “drumuri” către o calif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4869000"/>
            <a:ext cx="5832360" cy="865080"/>
          </a:xfrm>
          <a:custGeom>
            <a:avLst/>
            <a:gdLst>
              <a:gd name="textAreaLeft" fmla="*/ 911160 w 5832360"/>
              <a:gd name="textAreaRight" fmla="*/ 5121000 w 5832360"/>
              <a:gd name="textAreaTop" fmla="*/ 88560 h 865080"/>
              <a:gd name="textAreaBottom" fmla="*/ 7765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219"/>
                </a:moveTo>
                <a:lnTo>
                  <a:pt x="18284" y="2219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381"/>
                </a:lnTo>
                <a:lnTo>
                  <a:pt x="3375" y="19381"/>
                </a:lnTo>
                <a:close/>
              </a:path>
              <a:path w="21600" h="21600">
                <a:moveTo>
                  <a:pt x="0" y="2219"/>
                </a:moveTo>
                <a:lnTo>
                  <a:pt x="675" y="2219"/>
                </a:lnTo>
                <a:lnTo>
                  <a:pt x="675" y="19381"/>
                </a:lnTo>
                <a:lnTo>
                  <a:pt x="0" y="19381"/>
                </a:lnTo>
                <a:close/>
              </a:path>
              <a:path w="21600" h="21600">
                <a:moveTo>
                  <a:pt x="1350" y="2219"/>
                </a:moveTo>
                <a:lnTo>
                  <a:pt x="2700" y="2219"/>
                </a:lnTo>
                <a:lnTo>
                  <a:pt x="2700" y="19381"/>
                </a:lnTo>
                <a:lnTo>
                  <a:pt x="1350" y="19381"/>
                </a:lnTo>
                <a:close/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Sau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ombinarea contextelor menţionate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706840"/>
            <a:ext cx="5832360" cy="865080"/>
          </a:xfrm>
          <a:custGeom>
            <a:avLst/>
            <a:gdLst>
              <a:gd name="textAreaLeft" fmla="*/ 911160 w 5832360"/>
              <a:gd name="textAreaRight" fmla="*/ 5150520 w 5832360"/>
              <a:gd name="textAreaTop" fmla="*/ 102960 h 865080"/>
              <a:gd name="textAreaBottom" fmla="*/ 7621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576"/>
                </a:moveTo>
                <a:lnTo>
                  <a:pt x="18284" y="2576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024"/>
                </a:lnTo>
                <a:lnTo>
                  <a:pt x="3375" y="19024"/>
                </a:lnTo>
                <a:close/>
              </a:path>
              <a:path w="21600" h="21600">
                <a:moveTo>
                  <a:pt x="0" y="2576"/>
                </a:moveTo>
                <a:lnTo>
                  <a:pt x="675" y="2576"/>
                </a:lnTo>
                <a:lnTo>
                  <a:pt x="675" y="19024"/>
                </a:lnTo>
                <a:lnTo>
                  <a:pt x="0" y="19024"/>
                </a:lnTo>
                <a:close/>
              </a:path>
              <a:path w="21600" h="21600">
                <a:moveTo>
                  <a:pt x="1350" y="2576"/>
                </a:moveTo>
                <a:lnTo>
                  <a:pt x="2700" y="2576"/>
                </a:lnTo>
                <a:lnTo>
                  <a:pt x="2700" y="19024"/>
                </a:lnTo>
                <a:lnTo>
                  <a:pt x="1350" y="19024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ontext de învăţare “la locul de muncă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3787920"/>
            <a:ext cx="5832360" cy="865080"/>
          </a:xfrm>
          <a:custGeom>
            <a:avLst/>
            <a:gdLst>
              <a:gd name="textAreaLeft" fmla="*/ 911160 w 5832360"/>
              <a:gd name="textAreaRight" fmla="*/ 5116680 w 5832360"/>
              <a:gd name="textAreaTop" fmla="*/ 87120 h 865080"/>
              <a:gd name="textAreaBottom" fmla="*/ 77796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180"/>
                </a:moveTo>
                <a:lnTo>
                  <a:pt x="18278" y="2180"/>
                </a:lnTo>
                <a:lnTo>
                  <a:pt x="18278" y="0"/>
                </a:lnTo>
                <a:lnTo>
                  <a:pt x="21600" y="10800"/>
                </a:lnTo>
                <a:lnTo>
                  <a:pt x="18278" y="21600"/>
                </a:lnTo>
                <a:lnTo>
                  <a:pt x="18278" y="19420"/>
                </a:lnTo>
                <a:lnTo>
                  <a:pt x="3375" y="19420"/>
                </a:lnTo>
                <a:close/>
              </a:path>
              <a:path w="21600" h="21600">
                <a:moveTo>
                  <a:pt x="0" y="2180"/>
                </a:moveTo>
                <a:lnTo>
                  <a:pt x="675" y="2180"/>
                </a:lnTo>
                <a:lnTo>
                  <a:pt x="675" y="19420"/>
                </a:lnTo>
                <a:lnTo>
                  <a:pt x="0" y="19420"/>
                </a:lnTo>
                <a:close/>
              </a:path>
              <a:path w="21600" h="21600">
                <a:moveTo>
                  <a:pt x="1350" y="2180"/>
                </a:moveTo>
                <a:lnTo>
                  <a:pt x="2700" y="2180"/>
                </a:lnTo>
                <a:lnTo>
                  <a:pt x="2700" y="19420"/>
                </a:lnTo>
                <a:lnTo>
                  <a:pt x="1350" y="1942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Orice experienţă relevan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de via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1557360"/>
            <a:ext cx="5832360" cy="934920"/>
          </a:xfrm>
          <a:prstGeom prst="rightArrow">
            <a:avLst>
              <a:gd name="adj1" fmla="val 74194"/>
              <a:gd name="adj2" fmla="val 9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Context academ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8121600" y="4506840"/>
            <a:ext cx="241200" cy="293040"/>
            <a:chOff x="8121600" y="4506840"/>
            <a:chExt cx="241200" cy="293040"/>
          </a:xfrm>
        </p:grpSpPr>
        <p:sp>
          <p:nvSpPr>
            <p:cNvPr id="331" name=""/>
            <p:cNvSpPr/>
            <p:nvPr/>
          </p:nvSpPr>
          <p:spPr>
            <a:xfrm flipH="1" flipV="1">
              <a:off x="8121600" y="4559400"/>
              <a:ext cx="241200" cy="2401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1600" y="4506840"/>
              <a:ext cx="24120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732720" y="4869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666699"/>
                </a:solidFill>
                <a:latin typeface="Arial"/>
              </a:rPr>
              <a:t>Cal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731640" y="2779920"/>
            <a:ext cx="1178640" cy="1179360"/>
            <a:chOff x="6731640" y="2779920"/>
            <a:chExt cx="1178640" cy="1179360"/>
          </a:xfrm>
        </p:grpSpPr>
        <p:sp>
          <p:nvSpPr>
            <p:cNvPr id="335" name=""/>
            <p:cNvSpPr/>
            <p:nvPr/>
          </p:nvSpPr>
          <p:spPr>
            <a:xfrm>
              <a:off x="6979320" y="3027240"/>
              <a:ext cx="838080" cy="838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7257960" y="2779920"/>
              <a:ext cx="279000" cy="340920"/>
              <a:chOff x="7257960" y="2779920"/>
              <a:chExt cx="279000" cy="340920"/>
            </a:xfrm>
          </p:grpSpPr>
          <p:sp>
            <p:nvSpPr>
              <p:cNvPr id="337" name=""/>
              <p:cNvSpPr/>
              <p:nvPr/>
            </p:nvSpPr>
            <p:spPr>
              <a:xfrm rot="10800000">
                <a:off x="7257960" y="277992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0800000">
                <a:off x="7257960" y="290340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7569720" y="3306600"/>
              <a:ext cx="340560" cy="279360"/>
              <a:chOff x="7569720" y="3306600"/>
              <a:chExt cx="340560" cy="279360"/>
            </a:xfrm>
          </p:grpSpPr>
          <p:sp>
            <p:nvSpPr>
              <p:cNvPr id="340" name=""/>
              <p:cNvSpPr/>
              <p:nvPr/>
            </p:nvSpPr>
            <p:spPr>
              <a:xfrm flipH="1" flipV="1" rot="5400000">
                <a:off x="7569360" y="330624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5400000">
                <a:off x="7661880" y="333756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6731640" y="3306600"/>
              <a:ext cx="340560" cy="279360"/>
              <a:chOff x="6731640" y="3306600"/>
              <a:chExt cx="340560" cy="279360"/>
            </a:xfrm>
          </p:grpSpPr>
          <p:sp>
            <p:nvSpPr>
              <p:cNvPr id="343" name=""/>
              <p:cNvSpPr/>
              <p:nvPr/>
            </p:nvSpPr>
            <p:spPr>
              <a:xfrm flipH="1" flipV="1" rot="5400000">
                <a:off x="6731280" y="330624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5400000">
                <a:off x="6823800" y="333756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257960" y="3618720"/>
              <a:ext cx="279360" cy="340560"/>
              <a:chOff x="7257960" y="3618720"/>
              <a:chExt cx="279360" cy="340560"/>
            </a:xfrm>
          </p:grpSpPr>
          <p:sp>
            <p:nvSpPr>
              <p:cNvPr id="346" name=""/>
              <p:cNvSpPr/>
              <p:nvPr/>
            </p:nvSpPr>
            <p:spPr>
              <a:xfrm flipH="1" flipV="1" rot="10800000">
                <a:off x="7257960" y="361836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0800000">
                <a:off x="7257960" y="374184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7570080" y="2779920"/>
            <a:ext cx="1178640" cy="1179360"/>
            <a:chOff x="7570080" y="2779920"/>
            <a:chExt cx="1178640" cy="1179360"/>
          </a:xfrm>
        </p:grpSpPr>
        <p:sp>
          <p:nvSpPr>
            <p:cNvPr id="349" name=""/>
            <p:cNvSpPr/>
            <p:nvPr/>
          </p:nvSpPr>
          <p:spPr>
            <a:xfrm>
              <a:off x="7817400" y="3027240"/>
              <a:ext cx="838080" cy="838440"/>
            </a:xfrm>
            <a:prstGeom prst="rect">
              <a:avLst/>
            </a:prstGeom>
            <a:solidFill>
              <a:srgbClr val="593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8096400" y="2779920"/>
              <a:ext cx="279000" cy="340920"/>
              <a:chOff x="8096400" y="2779920"/>
              <a:chExt cx="279000" cy="340920"/>
            </a:xfrm>
          </p:grpSpPr>
          <p:sp>
            <p:nvSpPr>
              <p:cNvPr id="351" name=""/>
              <p:cNvSpPr/>
              <p:nvPr/>
            </p:nvSpPr>
            <p:spPr>
              <a:xfrm rot="10800000">
                <a:off x="8096400" y="277992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0800000">
                <a:off x="8096400" y="290340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8408160" y="3306600"/>
              <a:ext cx="340560" cy="279360"/>
              <a:chOff x="8408160" y="3306600"/>
              <a:chExt cx="340560" cy="279360"/>
            </a:xfrm>
          </p:grpSpPr>
          <p:sp>
            <p:nvSpPr>
              <p:cNvPr id="354" name=""/>
              <p:cNvSpPr/>
              <p:nvPr/>
            </p:nvSpPr>
            <p:spPr>
              <a:xfrm flipH="1" flipV="1" rot="5400000">
                <a:off x="8407800" y="330624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5400000">
                <a:off x="8500320" y="333756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7570080" y="3306600"/>
              <a:ext cx="340560" cy="279360"/>
              <a:chOff x="7570080" y="3306600"/>
              <a:chExt cx="340560" cy="279360"/>
            </a:xfrm>
          </p:grpSpPr>
          <p:sp>
            <p:nvSpPr>
              <p:cNvPr id="357" name=""/>
              <p:cNvSpPr/>
              <p:nvPr/>
            </p:nvSpPr>
            <p:spPr>
              <a:xfrm flipH="1" flipV="1" rot="5400000">
                <a:off x="7569720" y="330624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5400000">
                <a:off x="7662240" y="333756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096400" y="3618720"/>
              <a:ext cx="279360" cy="340560"/>
              <a:chOff x="8096400" y="3618720"/>
              <a:chExt cx="279360" cy="340560"/>
            </a:xfrm>
          </p:grpSpPr>
          <p:sp>
            <p:nvSpPr>
              <p:cNvPr id="360" name=""/>
              <p:cNvSpPr/>
              <p:nvPr/>
            </p:nvSpPr>
            <p:spPr>
              <a:xfrm flipH="1" flipV="1" rot="10800000">
                <a:off x="8096400" y="361836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0800000">
                <a:off x="8096400" y="374184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"/>
          <p:cNvGrpSpPr/>
          <p:nvPr/>
        </p:nvGrpSpPr>
        <p:grpSpPr>
          <a:xfrm>
            <a:off x="6731640" y="3618360"/>
            <a:ext cx="1178640" cy="1179000"/>
            <a:chOff x="6731640" y="3618360"/>
            <a:chExt cx="1178640" cy="1179000"/>
          </a:xfrm>
        </p:grpSpPr>
        <p:sp>
          <p:nvSpPr>
            <p:cNvPr id="363" name=""/>
            <p:cNvSpPr/>
            <p:nvPr/>
          </p:nvSpPr>
          <p:spPr>
            <a:xfrm>
              <a:off x="6978960" y="3865320"/>
              <a:ext cx="838440" cy="838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258320" y="3618360"/>
              <a:ext cx="279360" cy="340920"/>
              <a:chOff x="7258320" y="3618360"/>
              <a:chExt cx="279360" cy="340920"/>
            </a:xfrm>
          </p:grpSpPr>
          <p:sp>
            <p:nvSpPr>
              <p:cNvPr id="365" name=""/>
              <p:cNvSpPr/>
              <p:nvPr/>
            </p:nvSpPr>
            <p:spPr>
              <a:xfrm rot="10800000">
                <a:off x="7258320" y="3618360"/>
                <a:ext cx="27936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0800000">
                <a:off x="7258320" y="3741840"/>
                <a:ext cx="27936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569720" y="4145040"/>
              <a:ext cx="340560" cy="279360"/>
              <a:chOff x="7569720" y="4145040"/>
              <a:chExt cx="340560" cy="279360"/>
            </a:xfrm>
          </p:grpSpPr>
          <p:sp>
            <p:nvSpPr>
              <p:cNvPr id="368" name=""/>
              <p:cNvSpPr/>
              <p:nvPr/>
            </p:nvSpPr>
            <p:spPr>
              <a:xfrm flipH="1" flipV="1" rot="5400000">
                <a:off x="7569360" y="414468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5400000">
                <a:off x="7661880" y="417600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731640" y="4145040"/>
              <a:ext cx="340560" cy="279360"/>
              <a:chOff x="6731640" y="4145040"/>
              <a:chExt cx="340560" cy="279360"/>
            </a:xfrm>
          </p:grpSpPr>
          <p:sp>
            <p:nvSpPr>
              <p:cNvPr id="371" name=""/>
              <p:cNvSpPr/>
              <p:nvPr/>
            </p:nvSpPr>
            <p:spPr>
              <a:xfrm flipH="1" flipV="1" rot="5400000">
                <a:off x="6731280" y="414468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5400000">
                <a:off x="6823800" y="417600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258320" y="4455360"/>
              <a:ext cx="279360" cy="342000"/>
              <a:chOff x="7258320" y="4455360"/>
              <a:chExt cx="279360" cy="342000"/>
            </a:xfrm>
          </p:grpSpPr>
          <p:sp>
            <p:nvSpPr>
              <p:cNvPr id="374" name=""/>
              <p:cNvSpPr/>
              <p:nvPr/>
            </p:nvSpPr>
            <p:spPr>
              <a:xfrm flipH="1" flipV="1" rot="10800000">
                <a:off x="7258320" y="4455000"/>
                <a:ext cx="27936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0800000">
                <a:off x="7258320" y="4579920"/>
                <a:ext cx="27936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7570080" y="3618360"/>
            <a:ext cx="1178640" cy="1179000"/>
            <a:chOff x="7570080" y="3618360"/>
            <a:chExt cx="1178640" cy="1179000"/>
          </a:xfrm>
        </p:grpSpPr>
        <p:sp>
          <p:nvSpPr>
            <p:cNvPr id="377" name=""/>
            <p:cNvSpPr/>
            <p:nvPr/>
          </p:nvSpPr>
          <p:spPr>
            <a:xfrm>
              <a:off x="7817400" y="3865320"/>
              <a:ext cx="838080" cy="83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96400" y="3618360"/>
              <a:ext cx="279000" cy="340920"/>
              <a:chOff x="8096400" y="3618360"/>
              <a:chExt cx="279000" cy="340920"/>
            </a:xfrm>
          </p:grpSpPr>
          <p:sp>
            <p:nvSpPr>
              <p:cNvPr id="379" name=""/>
              <p:cNvSpPr/>
              <p:nvPr/>
            </p:nvSpPr>
            <p:spPr>
              <a:xfrm rot="10800000">
                <a:off x="8096400" y="361836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0800000">
                <a:off x="8096400" y="374184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408160" y="4145040"/>
              <a:ext cx="340560" cy="279360"/>
              <a:chOff x="8408160" y="4145040"/>
              <a:chExt cx="340560" cy="279360"/>
            </a:xfrm>
          </p:grpSpPr>
          <p:sp>
            <p:nvSpPr>
              <p:cNvPr id="382" name=""/>
              <p:cNvSpPr/>
              <p:nvPr/>
            </p:nvSpPr>
            <p:spPr>
              <a:xfrm flipH="1" flipV="1" rot="5400000">
                <a:off x="8407800" y="4144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400000">
                <a:off x="8500320" y="4176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7570080" y="4145040"/>
              <a:ext cx="340560" cy="279360"/>
              <a:chOff x="7570080" y="4145040"/>
              <a:chExt cx="340560" cy="279360"/>
            </a:xfrm>
          </p:grpSpPr>
          <p:sp>
            <p:nvSpPr>
              <p:cNvPr id="385" name=""/>
              <p:cNvSpPr/>
              <p:nvPr/>
            </p:nvSpPr>
            <p:spPr>
              <a:xfrm flipH="1" flipV="1" rot="5400000">
                <a:off x="7569720" y="4144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5400000">
                <a:off x="7662240" y="4176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096400" y="4456800"/>
              <a:ext cx="279360" cy="340560"/>
              <a:chOff x="8096400" y="4456800"/>
              <a:chExt cx="279360" cy="340560"/>
            </a:xfrm>
          </p:grpSpPr>
          <p:sp>
            <p:nvSpPr>
              <p:cNvPr id="388" name=""/>
              <p:cNvSpPr/>
              <p:nvPr/>
            </p:nvSpPr>
            <p:spPr>
              <a:xfrm flipH="1" flipV="1" rot="10800000">
                <a:off x="8096400" y="445644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0800000">
                <a:off x="8096400" y="457992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1.50289E-006 L -0.02361 -0.19931 E">
                                      <p:cBhvr>
                                        <p:cTn id="9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289E-006 L -0.11806 0.283 E">
                                      <p:cBhvr>
                                        <p:cTn id="101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24855E-007 L -0.13385 -9.24855E-007 E">
                                      <p:cBhvr>
                                        <p:cTn id="103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24855E-007 L -0.02361 -0.15723 E">
                                      <p:cBhvr>
                                        <p:cTn id="10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588000" y="2708280"/>
            <a:ext cx="2232000" cy="2158920"/>
          </a:xfrm>
          <a:prstGeom prst="rect">
            <a:avLst/>
          </a:prstGeom>
          <a:solidFill>
            <a:srgbClr val="99ccff"/>
          </a:solidFill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CVET &amp; LLL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: “drumuri” către o califi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4869000"/>
            <a:ext cx="3456000" cy="865080"/>
          </a:xfrm>
          <a:custGeom>
            <a:avLst/>
            <a:gdLst>
              <a:gd name="textAreaLeft" fmla="*/ 540000 w 3456000"/>
              <a:gd name="textAreaRight" fmla="*/ 3034440 w 3456000"/>
              <a:gd name="textAreaTop" fmla="*/ 88560 h 865080"/>
              <a:gd name="textAreaBottom" fmla="*/ 7765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219"/>
                </a:moveTo>
                <a:lnTo>
                  <a:pt x="18284" y="2219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381"/>
                </a:lnTo>
                <a:lnTo>
                  <a:pt x="3375" y="19381"/>
                </a:lnTo>
                <a:close/>
              </a:path>
              <a:path w="21600" h="21600">
                <a:moveTo>
                  <a:pt x="0" y="2219"/>
                </a:moveTo>
                <a:lnTo>
                  <a:pt x="675" y="2219"/>
                </a:lnTo>
                <a:lnTo>
                  <a:pt x="675" y="19381"/>
                </a:lnTo>
                <a:lnTo>
                  <a:pt x="0" y="19381"/>
                </a:lnTo>
                <a:close/>
              </a:path>
              <a:path w="21600" h="21600">
                <a:moveTo>
                  <a:pt x="1350" y="2219"/>
                </a:moveTo>
                <a:lnTo>
                  <a:pt x="2700" y="2219"/>
                </a:lnTo>
                <a:lnTo>
                  <a:pt x="2700" y="19381"/>
                </a:lnTo>
                <a:lnTo>
                  <a:pt x="1350" y="19381"/>
                </a:lnTo>
                <a:close/>
              </a:path>
            </a:pathLst>
          </a:custGeom>
          <a:gradFill rotWithShape="0">
            <a:gsLst>
              <a:gs pos="0">
                <a:srgbClr val="175e5e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Sau: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ombinarea tuturor contex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706840"/>
            <a:ext cx="3313080" cy="865080"/>
          </a:xfrm>
          <a:custGeom>
            <a:avLst/>
            <a:gdLst>
              <a:gd name="textAreaLeft" fmla="*/ 517680 w 3313080"/>
              <a:gd name="textAreaRight" fmla="*/ 2926080 w 3313080"/>
              <a:gd name="textAreaTop" fmla="*/ 102960 h 865080"/>
              <a:gd name="textAreaBottom" fmla="*/ 76212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576"/>
                </a:moveTo>
                <a:lnTo>
                  <a:pt x="18284" y="2576"/>
                </a:lnTo>
                <a:lnTo>
                  <a:pt x="18284" y="0"/>
                </a:lnTo>
                <a:lnTo>
                  <a:pt x="21600" y="10800"/>
                </a:lnTo>
                <a:lnTo>
                  <a:pt x="18284" y="21600"/>
                </a:lnTo>
                <a:lnTo>
                  <a:pt x="18284" y="19024"/>
                </a:lnTo>
                <a:lnTo>
                  <a:pt x="3375" y="19024"/>
                </a:lnTo>
                <a:close/>
              </a:path>
              <a:path w="21600" h="21600">
                <a:moveTo>
                  <a:pt x="0" y="2576"/>
                </a:moveTo>
                <a:lnTo>
                  <a:pt x="675" y="2576"/>
                </a:lnTo>
                <a:lnTo>
                  <a:pt x="675" y="19024"/>
                </a:lnTo>
                <a:lnTo>
                  <a:pt x="0" y="19024"/>
                </a:lnTo>
                <a:close/>
              </a:path>
              <a:path w="21600" h="21600">
                <a:moveTo>
                  <a:pt x="1350" y="2576"/>
                </a:moveTo>
                <a:lnTo>
                  <a:pt x="2700" y="2576"/>
                </a:lnTo>
                <a:lnTo>
                  <a:pt x="2700" y="19024"/>
                </a:lnTo>
                <a:lnTo>
                  <a:pt x="1350" y="19024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La locul de muncă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787920"/>
            <a:ext cx="3384360" cy="865080"/>
          </a:xfrm>
          <a:custGeom>
            <a:avLst/>
            <a:gdLst>
              <a:gd name="textAreaLeft" fmla="*/ 528840 w 3384360"/>
              <a:gd name="textAreaRight" fmla="*/ 2968920 w 3384360"/>
              <a:gd name="textAreaTop" fmla="*/ 87120 h 865080"/>
              <a:gd name="textAreaBottom" fmla="*/ 777960 h 865080"/>
            </a:gdLst>
            <a:ahLst/>
            <a:rect l="textAreaLeft" t="textAreaTop" r="textAreaRight" b="textAreaBottom"/>
            <a:pathLst>
              <a:path w="21600" h="21600">
                <a:moveTo>
                  <a:pt x="3375" y="2180"/>
                </a:moveTo>
                <a:lnTo>
                  <a:pt x="18278" y="2180"/>
                </a:lnTo>
                <a:lnTo>
                  <a:pt x="18278" y="0"/>
                </a:lnTo>
                <a:lnTo>
                  <a:pt x="21600" y="10800"/>
                </a:lnTo>
                <a:lnTo>
                  <a:pt x="18278" y="21600"/>
                </a:lnTo>
                <a:lnTo>
                  <a:pt x="18278" y="19420"/>
                </a:lnTo>
                <a:lnTo>
                  <a:pt x="3375" y="19420"/>
                </a:lnTo>
                <a:close/>
              </a:path>
              <a:path w="21600" h="21600">
                <a:moveTo>
                  <a:pt x="0" y="2180"/>
                </a:moveTo>
                <a:lnTo>
                  <a:pt x="675" y="2180"/>
                </a:lnTo>
                <a:lnTo>
                  <a:pt x="675" y="19420"/>
                </a:lnTo>
                <a:lnTo>
                  <a:pt x="0" y="19420"/>
                </a:lnTo>
                <a:close/>
              </a:path>
              <a:path w="21600" h="21600">
                <a:moveTo>
                  <a:pt x="1350" y="2180"/>
                </a:moveTo>
                <a:lnTo>
                  <a:pt x="2700" y="2180"/>
                </a:lnTo>
                <a:lnTo>
                  <a:pt x="2700" y="19420"/>
                </a:lnTo>
                <a:lnTo>
                  <a:pt x="1350" y="19420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Orice experienţă relevantă de via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1557360"/>
            <a:ext cx="3313080" cy="934920"/>
          </a:xfrm>
          <a:prstGeom prst="rightArrow">
            <a:avLst>
              <a:gd name="adj1" fmla="val 74194"/>
              <a:gd name="adj2" fmla="val 55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Context acad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de învăţ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21600" y="4506840"/>
            <a:ext cx="241200" cy="293040"/>
            <a:chOff x="8121600" y="4506840"/>
            <a:chExt cx="241200" cy="293040"/>
          </a:xfrm>
        </p:grpSpPr>
        <p:sp>
          <p:nvSpPr>
            <p:cNvPr id="397" name=""/>
            <p:cNvSpPr/>
            <p:nvPr/>
          </p:nvSpPr>
          <p:spPr>
            <a:xfrm flipH="1" flipV="1">
              <a:off x="8121600" y="4559400"/>
              <a:ext cx="241200" cy="2401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21600" y="4506840"/>
              <a:ext cx="24120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6732720" y="4869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666699"/>
                </a:solidFill>
                <a:latin typeface="Arial"/>
              </a:rPr>
              <a:t>Cal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731640" y="2779920"/>
            <a:ext cx="1178640" cy="1179360"/>
            <a:chOff x="6731640" y="2779920"/>
            <a:chExt cx="1178640" cy="1179360"/>
          </a:xfrm>
        </p:grpSpPr>
        <p:sp>
          <p:nvSpPr>
            <p:cNvPr id="401" name=""/>
            <p:cNvSpPr/>
            <p:nvPr/>
          </p:nvSpPr>
          <p:spPr>
            <a:xfrm>
              <a:off x="6979320" y="3027240"/>
              <a:ext cx="838080" cy="838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7257960" y="2779920"/>
              <a:ext cx="279000" cy="340920"/>
              <a:chOff x="7257960" y="2779920"/>
              <a:chExt cx="279000" cy="340920"/>
            </a:xfrm>
          </p:grpSpPr>
          <p:sp>
            <p:nvSpPr>
              <p:cNvPr id="403" name=""/>
              <p:cNvSpPr/>
              <p:nvPr/>
            </p:nvSpPr>
            <p:spPr>
              <a:xfrm rot="10800000">
                <a:off x="7257960" y="277992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0800000">
                <a:off x="7257960" y="290340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569720" y="3306600"/>
              <a:ext cx="340560" cy="279360"/>
              <a:chOff x="7569720" y="3306600"/>
              <a:chExt cx="340560" cy="279360"/>
            </a:xfrm>
          </p:grpSpPr>
          <p:sp>
            <p:nvSpPr>
              <p:cNvPr id="406" name=""/>
              <p:cNvSpPr/>
              <p:nvPr/>
            </p:nvSpPr>
            <p:spPr>
              <a:xfrm flipH="1" flipV="1" rot="5400000">
                <a:off x="7569360" y="330624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5400000">
                <a:off x="7661880" y="333756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731640" y="3306600"/>
              <a:ext cx="340560" cy="279360"/>
              <a:chOff x="6731640" y="3306600"/>
              <a:chExt cx="340560" cy="279360"/>
            </a:xfrm>
          </p:grpSpPr>
          <p:sp>
            <p:nvSpPr>
              <p:cNvPr id="409" name=""/>
              <p:cNvSpPr/>
              <p:nvPr/>
            </p:nvSpPr>
            <p:spPr>
              <a:xfrm flipH="1" flipV="1" rot="5400000">
                <a:off x="6731280" y="330624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5400000">
                <a:off x="6823800" y="333756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257960" y="3618720"/>
              <a:ext cx="279360" cy="340560"/>
              <a:chOff x="7257960" y="3618720"/>
              <a:chExt cx="279360" cy="340560"/>
            </a:xfrm>
          </p:grpSpPr>
          <p:sp>
            <p:nvSpPr>
              <p:cNvPr id="412" name=""/>
              <p:cNvSpPr/>
              <p:nvPr/>
            </p:nvSpPr>
            <p:spPr>
              <a:xfrm flipH="1" flipV="1" rot="10800000">
                <a:off x="7257960" y="3618360"/>
                <a:ext cx="279000" cy="2790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0800000">
                <a:off x="7257960" y="3741840"/>
                <a:ext cx="279000" cy="2174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7570080" y="2779920"/>
            <a:ext cx="1178640" cy="1179360"/>
            <a:chOff x="7570080" y="2779920"/>
            <a:chExt cx="1178640" cy="1179360"/>
          </a:xfrm>
        </p:grpSpPr>
        <p:sp>
          <p:nvSpPr>
            <p:cNvPr id="415" name=""/>
            <p:cNvSpPr/>
            <p:nvPr/>
          </p:nvSpPr>
          <p:spPr>
            <a:xfrm>
              <a:off x="7817400" y="3027240"/>
              <a:ext cx="838080" cy="838440"/>
            </a:xfrm>
            <a:prstGeom prst="rect">
              <a:avLst/>
            </a:prstGeom>
            <a:solidFill>
              <a:srgbClr val="593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8096400" y="2779920"/>
              <a:ext cx="279000" cy="340920"/>
              <a:chOff x="8096400" y="2779920"/>
              <a:chExt cx="279000" cy="340920"/>
            </a:xfrm>
          </p:grpSpPr>
          <p:sp>
            <p:nvSpPr>
              <p:cNvPr id="417" name=""/>
              <p:cNvSpPr/>
              <p:nvPr/>
            </p:nvSpPr>
            <p:spPr>
              <a:xfrm rot="10800000">
                <a:off x="8096400" y="277992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0800000">
                <a:off x="8096400" y="290340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8408160" y="3306600"/>
              <a:ext cx="340560" cy="279360"/>
              <a:chOff x="8408160" y="3306600"/>
              <a:chExt cx="340560" cy="279360"/>
            </a:xfrm>
          </p:grpSpPr>
          <p:sp>
            <p:nvSpPr>
              <p:cNvPr id="420" name=""/>
              <p:cNvSpPr/>
              <p:nvPr/>
            </p:nvSpPr>
            <p:spPr>
              <a:xfrm flipH="1" flipV="1" rot="5400000">
                <a:off x="8407800" y="330624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5400000">
                <a:off x="8500320" y="333756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570080" y="3306600"/>
              <a:ext cx="340560" cy="279360"/>
              <a:chOff x="7570080" y="3306600"/>
              <a:chExt cx="340560" cy="279360"/>
            </a:xfrm>
          </p:grpSpPr>
          <p:sp>
            <p:nvSpPr>
              <p:cNvPr id="423" name=""/>
              <p:cNvSpPr/>
              <p:nvPr/>
            </p:nvSpPr>
            <p:spPr>
              <a:xfrm flipH="1" flipV="1" rot="5400000">
                <a:off x="7569720" y="330624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5400000">
                <a:off x="7662240" y="333756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8096400" y="3618720"/>
              <a:ext cx="279360" cy="340560"/>
              <a:chOff x="8096400" y="3618720"/>
              <a:chExt cx="279360" cy="340560"/>
            </a:xfrm>
          </p:grpSpPr>
          <p:sp>
            <p:nvSpPr>
              <p:cNvPr id="426" name=""/>
              <p:cNvSpPr/>
              <p:nvPr/>
            </p:nvSpPr>
            <p:spPr>
              <a:xfrm flipH="1" flipV="1" rot="10800000">
                <a:off x="8096400" y="3618360"/>
                <a:ext cx="279000" cy="279000"/>
              </a:xfrm>
              <a:prstGeom prst="ellipse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0800000">
                <a:off x="8096400" y="3741840"/>
                <a:ext cx="279000" cy="217440"/>
              </a:xfrm>
              <a:prstGeom prst="rect">
                <a:avLst/>
              </a:prstGeom>
              <a:solidFill>
                <a:srgbClr val="593b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6731640" y="3618360"/>
            <a:ext cx="1178640" cy="1179000"/>
            <a:chOff x="6731640" y="3618360"/>
            <a:chExt cx="1178640" cy="1179000"/>
          </a:xfrm>
        </p:grpSpPr>
        <p:sp>
          <p:nvSpPr>
            <p:cNvPr id="429" name=""/>
            <p:cNvSpPr/>
            <p:nvPr/>
          </p:nvSpPr>
          <p:spPr>
            <a:xfrm>
              <a:off x="6978960" y="3865320"/>
              <a:ext cx="838440" cy="838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258320" y="3618360"/>
              <a:ext cx="279360" cy="340920"/>
              <a:chOff x="7258320" y="3618360"/>
              <a:chExt cx="279360" cy="340920"/>
            </a:xfrm>
          </p:grpSpPr>
          <p:sp>
            <p:nvSpPr>
              <p:cNvPr id="431" name=""/>
              <p:cNvSpPr/>
              <p:nvPr/>
            </p:nvSpPr>
            <p:spPr>
              <a:xfrm rot="10800000">
                <a:off x="7258320" y="3618360"/>
                <a:ext cx="27936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0800000">
                <a:off x="7258320" y="3741840"/>
                <a:ext cx="27936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569720" y="4145040"/>
              <a:ext cx="340560" cy="279360"/>
              <a:chOff x="7569720" y="4145040"/>
              <a:chExt cx="340560" cy="279360"/>
            </a:xfrm>
          </p:grpSpPr>
          <p:sp>
            <p:nvSpPr>
              <p:cNvPr id="434" name=""/>
              <p:cNvSpPr/>
              <p:nvPr/>
            </p:nvSpPr>
            <p:spPr>
              <a:xfrm flipH="1" flipV="1" rot="5400000">
                <a:off x="7569360" y="414468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5400000">
                <a:off x="7661880" y="417600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731640" y="4145040"/>
              <a:ext cx="340560" cy="279360"/>
              <a:chOff x="6731640" y="4145040"/>
              <a:chExt cx="340560" cy="279360"/>
            </a:xfrm>
          </p:grpSpPr>
          <p:sp>
            <p:nvSpPr>
              <p:cNvPr id="437" name=""/>
              <p:cNvSpPr/>
              <p:nvPr/>
            </p:nvSpPr>
            <p:spPr>
              <a:xfrm flipH="1" flipV="1" rot="5400000">
                <a:off x="6731280" y="4144680"/>
                <a:ext cx="27900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5400000">
                <a:off x="6823800" y="4176000"/>
                <a:ext cx="27900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258320" y="4455360"/>
              <a:ext cx="279360" cy="342000"/>
              <a:chOff x="7258320" y="4455360"/>
              <a:chExt cx="279360" cy="342000"/>
            </a:xfrm>
          </p:grpSpPr>
          <p:sp>
            <p:nvSpPr>
              <p:cNvPr id="440" name=""/>
              <p:cNvSpPr/>
              <p:nvPr/>
            </p:nvSpPr>
            <p:spPr>
              <a:xfrm flipH="1" flipV="1" rot="10800000">
                <a:off x="7258320" y="4455000"/>
                <a:ext cx="279360" cy="279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0800000">
                <a:off x="7258320" y="4579920"/>
                <a:ext cx="279360" cy="217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7570080" y="3618360"/>
            <a:ext cx="1178640" cy="1179000"/>
            <a:chOff x="7570080" y="3618360"/>
            <a:chExt cx="1178640" cy="1179000"/>
          </a:xfrm>
        </p:grpSpPr>
        <p:sp>
          <p:nvSpPr>
            <p:cNvPr id="443" name=""/>
            <p:cNvSpPr/>
            <p:nvPr/>
          </p:nvSpPr>
          <p:spPr>
            <a:xfrm>
              <a:off x="7817400" y="3865320"/>
              <a:ext cx="838080" cy="83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8096400" y="3618360"/>
              <a:ext cx="279000" cy="340920"/>
              <a:chOff x="8096400" y="3618360"/>
              <a:chExt cx="279000" cy="340920"/>
            </a:xfrm>
          </p:grpSpPr>
          <p:sp>
            <p:nvSpPr>
              <p:cNvPr id="445" name=""/>
              <p:cNvSpPr/>
              <p:nvPr/>
            </p:nvSpPr>
            <p:spPr>
              <a:xfrm rot="10800000">
                <a:off x="8096400" y="361836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0800000">
                <a:off x="8096400" y="374184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8408160" y="4145040"/>
              <a:ext cx="340560" cy="279360"/>
              <a:chOff x="8408160" y="4145040"/>
              <a:chExt cx="340560" cy="279360"/>
            </a:xfrm>
          </p:grpSpPr>
          <p:sp>
            <p:nvSpPr>
              <p:cNvPr id="448" name=""/>
              <p:cNvSpPr/>
              <p:nvPr/>
            </p:nvSpPr>
            <p:spPr>
              <a:xfrm flipH="1" flipV="1" rot="5400000">
                <a:off x="8407800" y="4144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5400000">
                <a:off x="8500320" y="4176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7570080" y="4145040"/>
              <a:ext cx="340560" cy="279360"/>
              <a:chOff x="7570080" y="4145040"/>
              <a:chExt cx="340560" cy="279360"/>
            </a:xfrm>
          </p:grpSpPr>
          <p:sp>
            <p:nvSpPr>
              <p:cNvPr id="451" name=""/>
              <p:cNvSpPr/>
              <p:nvPr/>
            </p:nvSpPr>
            <p:spPr>
              <a:xfrm flipH="1" flipV="1" rot="5400000">
                <a:off x="7569720" y="414468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400000">
                <a:off x="7662240" y="417600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8096400" y="4456800"/>
              <a:ext cx="279360" cy="340560"/>
              <a:chOff x="8096400" y="4456800"/>
              <a:chExt cx="279360" cy="340560"/>
            </a:xfrm>
          </p:grpSpPr>
          <p:sp>
            <p:nvSpPr>
              <p:cNvPr id="454" name=""/>
              <p:cNvSpPr/>
              <p:nvPr/>
            </p:nvSpPr>
            <p:spPr>
              <a:xfrm flipH="1" flipV="1" rot="10800000">
                <a:off x="8096400" y="4456440"/>
                <a:ext cx="279000" cy="2790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0800000">
                <a:off x="8096400" y="4579920"/>
                <a:ext cx="279000" cy="217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"/>
          <p:cNvSpPr/>
          <p:nvPr/>
        </p:nvSpPr>
        <p:spPr>
          <a:xfrm>
            <a:off x="4572000" y="3213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Evaluarea,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validarea </a:t>
            </a:r>
            <a:r>
              <a:rPr b="1" lang="fr-BE" sz="1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ecunoaşte-rea L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40360" y="1484280"/>
            <a:ext cx="576000" cy="4465800"/>
          </a:xfrm>
          <a:custGeom>
            <a:avLst/>
            <a:gdLst>
              <a:gd name="textAreaLeft" fmla="*/ 0 w 576000"/>
              <a:gd name="textAreaRight" fmla="*/ 208080 w 576000"/>
              <a:gd name="textAreaTop" fmla="*/ 116280 h 4465800"/>
              <a:gd name="textAreaBottom" fmla="*/ 434952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4"/>
                </a:lnTo>
                <a:cubicBezTo>
                  <a:pt x="10800" y="9904"/>
                  <a:pt x="16200" y="10804"/>
                  <a:pt x="21600" y="10804"/>
                </a:cubicBezTo>
                <a:cubicBezTo>
                  <a:pt x="16200" y="10804"/>
                  <a:pt x="10800" y="11704"/>
                  <a:pt x="10800" y="126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1.50289E-006 L -0.02361 -0.19931 E">
                                      <p:cBhvr>
                                        <p:cTn id="126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50289E-006 L -0.11806 0.283 E">
                                      <p:cBhvr>
                                        <p:cTn id="128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9.24855E-007 L -0.13385 -9.24855E-007 E">
                                      <p:cBhvr>
                                        <p:cTn id="13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24855E-007 L -0.02361 -0.15723 E">
                                      <p:cBhvr>
                                        <p:cTn id="132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CVET: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Un sistem orientat spre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rezultate ale învăţării</a:t>
            </a:r>
            <a:r>
              <a:rPr b="1" i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(L.O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28640" y="2060640"/>
            <a:ext cx="4203720" cy="38988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148360" y="1844640"/>
            <a:ext cx="3384360" cy="1081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Validarea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şi </a:t>
            </a: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recunoaşterea</a:t>
            </a: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.O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148360" y="3429000"/>
            <a:ext cx="3384360" cy="1081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Acumularea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/ </a:t>
            </a: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valorificarea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L.O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48360" y="5013360"/>
            <a:ext cx="3384360" cy="10810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99"/>
                </a:solidFill>
                <a:latin typeface="Arial"/>
              </a:rPr>
              <a:t>Transferul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L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Nucleul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ECVET: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Unităţile de competenţ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0800000">
            <a:off x="899640" y="1916280"/>
            <a:ext cx="1584360" cy="2808000"/>
          </a:xfrm>
          <a:prstGeom prst="rect">
            <a:avLst/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ff"/>
                </a:solidFill>
                <a:latin typeface="Arial"/>
              </a:rPr>
              <a:t>Unităţ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 rot="10800000">
            <a:off x="2625840" y="1916280"/>
            <a:ext cx="2592360" cy="2808000"/>
          </a:xfrm>
          <a:prstGeom prst="leftArrowCallout">
            <a:avLst>
              <a:gd name="adj1" fmla="val 27082"/>
              <a:gd name="adj2" fmla="val 27080"/>
              <a:gd name="adj3" fmla="val 16667"/>
              <a:gd name="adj4" fmla="val 6667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Rezul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 învăţăr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40360" y="1268280"/>
            <a:ext cx="302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Unităţi definite printr-un set coerent de CDC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unoştinţ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deprind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mpetenţe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5589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ţinutul unităţilor este independent de metodele de predare/ învăţare, de evaluare, etc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539640" y="1197000"/>
            <a:ext cx="1297080" cy="5111280"/>
            <a:chOff x="539640" y="1197000"/>
            <a:chExt cx="1297080" cy="5111280"/>
          </a:xfrm>
        </p:grpSpPr>
        <p:sp>
          <p:nvSpPr>
            <p:cNvPr id="469" name=""/>
            <p:cNvSpPr/>
            <p:nvPr/>
          </p:nvSpPr>
          <p:spPr>
            <a:xfrm>
              <a:off x="539640" y="1197000"/>
              <a:ext cx="1297080" cy="1459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640" y="2656800"/>
              <a:ext cx="1297080" cy="211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9640" y="4775400"/>
              <a:ext cx="1297080" cy="1532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 rot="10800000">
            <a:off x="533520" y="1196640"/>
            <a:ext cx="1296720" cy="511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lific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Nucleul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ECVET: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Unităţile de competenţ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19640" y="1341360"/>
            <a:ext cx="540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Numărul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dimensiunea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600" spc="-1" strike="noStrike" u="sng">
                <a:solidFill>
                  <a:srgbClr val="ffffff"/>
                </a:solidFill>
                <a:uFillTx/>
                <a:latin typeface="Arial"/>
              </a:rPr>
              <a:t>nivelul </a:t>
            </a: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EQF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caracteristicile şi valoarea punctelor de credit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le unităţilor de competenţ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unt definite </a:t>
            </a:r>
            <a:r>
              <a:rPr b="1" lang="ro-RO" sz="3600" spc="-1" strike="noStrike">
                <a:solidFill>
                  <a:srgbClr val="ffcc00"/>
                </a:solidFill>
                <a:latin typeface="Arial"/>
              </a:rPr>
              <a:t>la nivel naţional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de către instituţii autoriz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771640" y="1268280"/>
            <a:ext cx="503280" cy="5040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4624E-007 L 0.18108 4.04624E-007 E">
                                      <p:cBhvr>
                                        <p:cTn id="190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11280" y="234936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Generale / specializ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Unităţi de competenţe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un cadru flexibil pentru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L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170028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Transversa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 specific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1280" y="2997360"/>
            <a:ext cx="7775640" cy="502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pţionale / obligat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573408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Global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vizate pe sub-unităţ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1052640"/>
            <a:ext cx="8497800" cy="5047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22160" indent="-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u privire la o calificare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unităţile de competenţe pot fi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1280" y="364500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trict legate de mob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1280" y="495612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mune mai multor calificări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1280" y="4292640"/>
            <a:ext cx="7775640" cy="503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Interdependente</a:t>
            </a: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epen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Puncte de credit pentru unităţile de competenţ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10800000">
            <a:off x="826560" y="1412640"/>
            <a:ext cx="1297080" cy="5040360"/>
          </a:xfrm>
          <a:prstGeom prst="rect">
            <a:avLst/>
          </a:prstGeom>
          <a:blipFill rotWithShape="0">
            <a:blip r:embed="rId1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Calific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10800000">
            <a:off x="2410920" y="3715920"/>
            <a:ext cx="1297080" cy="27370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ff"/>
                </a:solidFill>
                <a:latin typeface="Arial"/>
              </a:rPr>
              <a:t>Unit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851280" y="5373720"/>
            <a:ext cx="151272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268000" y="2637000"/>
            <a:ext cx="309564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508720" y="1273320"/>
            <a:ext cx="331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Puncte de credit alocate pentru fiecare calificare şi, respectiv unitate de competenţe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de către instituţii autoriz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4" dur="500" fill="hold"/>
                                        <p:tgtEl>
                                          <p:spTgt spid="48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48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CVET: atingerea scop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1773360"/>
            <a:ext cx="4032360" cy="3600360"/>
          </a:xfrm>
          <a:custGeom>
            <a:avLst/>
            <a:gdLst>
              <a:gd name="textAreaLeft" fmla="*/ 783720 w 4032360"/>
              <a:gd name="textAreaRight" fmla="*/ 3248640 w 4032360"/>
              <a:gd name="textAreaTop" fmla="*/ 699480 h 3600360"/>
              <a:gd name="textAreaBottom" fmla="*/ 2900880 h 3600360"/>
            </a:gdLst>
            <a:ahLst/>
            <a:rect l="textAreaLeft" t="textAreaTop" r="textAreaRight" b="textAreaBottom"/>
            <a:pathLst>
              <a:path w="21600" h="21600">
                <a:moveTo>
                  <a:pt x="4198" y="4198"/>
                </a:moveTo>
                <a:lnTo>
                  <a:pt x="9739" y="4198"/>
                </a:lnTo>
                <a:lnTo>
                  <a:pt x="9739" y="3253"/>
                </a:lnTo>
                <a:lnTo>
                  <a:pt x="8174" y="3253"/>
                </a:lnTo>
                <a:lnTo>
                  <a:pt x="10800" y="0"/>
                </a:lnTo>
                <a:lnTo>
                  <a:pt x="13426" y="3253"/>
                </a:lnTo>
                <a:lnTo>
                  <a:pt x="11861" y="3253"/>
                </a:lnTo>
                <a:lnTo>
                  <a:pt x="11861" y="4198"/>
                </a:lnTo>
                <a:lnTo>
                  <a:pt x="17402" y="4198"/>
                </a:lnTo>
                <a:lnTo>
                  <a:pt x="17402" y="9739"/>
                </a:lnTo>
                <a:lnTo>
                  <a:pt x="18347" y="9739"/>
                </a:lnTo>
                <a:lnTo>
                  <a:pt x="18347" y="8174"/>
                </a:lnTo>
                <a:lnTo>
                  <a:pt x="21600" y="10800"/>
                </a:lnTo>
                <a:lnTo>
                  <a:pt x="18347" y="13426"/>
                </a:lnTo>
                <a:lnTo>
                  <a:pt x="18347" y="11861"/>
                </a:lnTo>
                <a:lnTo>
                  <a:pt x="17402" y="11861"/>
                </a:lnTo>
                <a:lnTo>
                  <a:pt x="17402" y="17402"/>
                </a:lnTo>
                <a:lnTo>
                  <a:pt x="11861" y="17402"/>
                </a:lnTo>
                <a:lnTo>
                  <a:pt x="11861" y="18347"/>
                </a:lnTo>
                <a:lnTo>
                  <a:pt x="13426" y="18347"/>
                </a:lnTo>
                <a:lnTo>
                  <a:pt x="10800" y="21600"/>
                </a:lnTo>
                <a:lnTo>
                  <a:pt x="8174" y="18347"/>
                </a:lnTo>
                <a:lnTo>
                  <a:pt x="9739" y="18347"/>
                </a:lnTo>
                <a:lnTo>
                  <a:pt x="9739" y="17402"/>
                </a:lnTo>
                <a:lnTo>
                  <a:pt x="4198" y="17402"/>
                </a:lnTo>
                <a:lnTo>
                  <a:pt x="4198" y="11861"/>
                </a:lnTo>
                <a:lnTo>
                  <a:pt x="3253" y="11861"/>
                </a:lnTo>
                <a:lnTo>
                  <a:pt x="3253" y="13426"/>
                </a:lnTo>
                <a:lnTo>
                  <a:pt x="0" y="10800"/>
                </a:lnTo>
                <a:lnTo>
                  <a:pt x="3253" y="8174"/>
                </a:lnTo>
                <a:lnTo>
                  <a:pt x="3253" y="9739"/>
                </a:lnTo>
                <a:lnTo>
                  <a:pt x="4198" y="9739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ff"/>
                </a:solidFill>
                <a:latin typeface="Arial"/>
              </a:rPr>
              <a:t>Realizarea</a:t>
            </a:r>
            <a:br>
              <a:rPr sz="2800"/>
            </a:b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EC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1052640"/>
            <a:ext cx="3672000" cy="57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1. Calificare &amp; unităţi de competen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2960640"/>
            <a:ext cx="1944720" cy="108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4. Metodologie pentru alocarea punctelor de cre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90920" y="5445000"/>
            <a:ext cx="244800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3. 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Proces de examinare şi cert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48360" y="2889360"/>
            <a:ext cx="187164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2. </a:t>
            </a:r>
            <a:r>
              <a:rPr b="1" lang="ro-RO" sz="1800" spc="-1" strike="noStrike">
                <a:solidFill>
                  <a:srgbClr val="0066ff"/>
                </a:solidFill>
                <a:latin typeface="Arial"/>
              </a:rPr>
              <a:t>Procedură de validare L.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697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CVET: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o “perspectivă  LLL” &amp; un “sistem centrat pe persoan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380640" y="3830760"/>
            <a:ext cx="2237040" cy="2552400"/>
            <a:chOff x="6380640" y="3830760"/>
            <a:chExt cx="2237040" cy="2552400"/>
          </a:xfrm>
        </p:grpSpPr>
        <p:sp>
          <p:nvSpPr>
            <p:cNvPr id="52" name=""/>
            <p:cNvSpPr/>
            <p:nvPr/>
          </p:nvSpPr>
          <p:spPr>
            <a:xfrm>
              <a:off x="6581880" y="6024600"/>
              <a:ext cx="204840" cy="21420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890000">
              <a:off x="6652440" y="5317920"/>
              <a:ext cx="1195560" cy="302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608400">
              <a:off x="6465960" y="4003560"/>
              <a:ext cx="2066400" cy="115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drumu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000000"/>
                  </a:solidFill>
                  <a:latin typeface="Arial"/>
                </a:rPr>
                <a:t>învăţării pe tot parcursul vieţii</a:t>
              </a:r>
              <a:r>
                <a:rPr b="1" lang="ro-RO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9240" y="5808600"/>
              <a:ext cx="516960" cy="503280"/>
            </a:xfrm>
            <a:prstGeom prst="rtTriangl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84480" y="5808600"/>
              <a:ext cx="207000" cy="574560"/>
            </a:xfrm>
            <a:prstGeom prst="rtTriangl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098480" y="5735520"/>
              <a:ext cx="309240" cy="50328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201080" y="5735520"/>
              <a:ext cx="309960" cy="50328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098480" y="5375160"/>
              <a:ext cx="207000" cy="1006560"/>
            </a:xfrm>
            <a:prstGeom prst="rtTriangl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94440" y="5808600"/>
              <a:ext cx="309960" cy="503280"/>
            </a:xfrm>
            <a:prstGeom prst="rtTriangl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91480" y="5375160"/>
              <a:ext cx="207720" cy="936720"/>
            </a:xfrm>
            <a:prstGeom prst="rtTriangl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408080" y="5951520"/>
              <a:ext cx="204840" cy="358920"/>
            </a:xfrm>
            <a:prstGeom prst="rtTriangl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76880" y="1645920"/>
            <a:ext cx="8081280" cy="6280920"/>
            <a:chOff x="776880" y="1645920"/>
            <a:chExt cx="8081280" cy="6280920"/>
          </a:xfrm>
        </p:grpSpPr>
        <p:grpSp>
          <p:nvGrpSpPr>
            <p:cNvPr id="64" name=""/>
            <p:cNvGrpSpPr/>
            <p:nvPr/>
          </p:nvGrpSpPr>
          <p:grpSpPr>
            <a:xfrm>
              <a:off x="776880" y="2604240"/>
              <a:ext cx="7769520" cy="5322600"/>
              <a:chOff x="776880" y="2604240"/>
              <a:chExt cx="7769520" cy="5322600"/>
            </a:xfrm>
          </p:grpSpPr>
          <p:sp>
            <p:nvSpPr>
              <p:cNvPr id="65" name=""/>
              <p:cNvSpPr/>
              <p:nvPr/>
            </p:nvSpPr>
            <p:spPr>
              <a:xfrm rot="21291600">
                <a:off x="971640" y="2925360"/>
                <a:ext cx="7380000" cy="4680000"/>
              </a:xfrm>
              <a:custGeom>
                <a:avLst/>
                <a:gdLst/>
                <a:ahLst/>
                <a:rect l="l" t="t" r="r" b="b"/>
                <a:pathLst>
                  <a:path w="4649" h="2948">
                    <a:moveTo>
                      <a:pt x="567" y="2948"/>
                    </a:moveTo>
                    <a:cubicBezTo>
                      <a:pt x="351" y="2574"/>
                      <a:pt x="136" y="2200"/>
                      <a:pt x="68" y="1905"/>
                    </a:cubicBezTo>
                    <a:cubicBezTo>
                      <a:pt x="0" y="1610"/>
                      <a:pt x="29" y="1300"/>
                      <a:pt x="158" y="1179"/>
                    </a:cubicBezTo>
                    <a:cubicBezTo>
                      <a:pt x="287" y="1058"/>
                      <a:pt x="620" y="1096"/>
                      <a:pt x="839" y="1179"/>
                    </a:cubicBezTo>
                    <a:cubicBezTo>
                      <a:pt x="1058" y="1262"/>
                      <a:pt x="1285" y="1534"/>
                      <a:pt x="1474" y="1678"/>
                    </a:cubicBezTo>
                    <a:cubicBezTo>
                      <a:pt x="1663" y="1822"/>
                      <a:pt x="1822" y="1950"/>
                      <a:pt x="1973" y="2041"/>
                    </a:cubicBezTo>
                    <a:cubicBezTo>
                      <a:pt x="2124" y="2132"/>
                      <a:pt x="2268" y="2193"/>
                      <a:pt x="2381" y="2223"/>
                    </a:cubicBezTo>
                    <a:cubicBezTo>
                      <a:pt x="2494" y="2253"/>
                      <a:pt x="2555" y="2246"/>
                      <a:pt x="2653" y="2223"/>
                    </a:cubicBezTo>
                    <a:cubicBezTo>
                      <a:pt x="2751" y="2200"/>
                      <a:pt x="2911" y="2177"/>
                      <a:pt x="2971" y="2086"/>
                    </a:cubicBezTo>
                    <a:cubicBezTo>
                      <a:pt x="3031" y="1995"/>
                      <a:pt x="3024" y="1814"/>
                      <a:pt x="3016" y="1678"/>
                    </a:cubicBezTo>
                    <a:cubicBezTo>
                      <a:pt x="3008" y="1542"/>
                      <a:pt x="2978" y="1376"/>
                      <a:pt x="2925" y="1270"/>
                    </a:cubicBezTo>
                    <a:cubicBezTo>
                      <a:pt x="2872" y="1164"/>
                      <a:pt x="2804" y="1134"/>
                      <a:pt x="2698" y="1043"/>
                    </a:cubicBezTo>
                    <a:cubicBezTo>
                      <a:pt x="2592" y="952"/>
                      <a:pt x="2373" y="817"/>
                      <a:pt x="2290" y="726"/>
                    </a:cubicBezTo>
                    <a:cubicBezTo>
                      <a:pt x="2207" y="635"/>
                      <a:pt x="2199" y="567"/>
                      <a:pt x="2199" y="499"/>
                    </a:cubicBezTo>
                    <a:cubicBezTo>
                      <a:pt x="2199" y="431"/>
                      <a:pt x="2230" y="362"/>
                      <a:pt x="2290" y="317"/>
                    </a:cubicBezTo>
                    <a:cubicBezTo>
                      <a:pt x="2350" y="272"/>
                      <a:pt x="2441" y="242"/>
                      <a:pt x="2562" y="227"/>
                    </a:cubicBezTo>
                    <a:cubicBezTo>
                      <a:pt x="2683" y="212"/>
                      <a:pt x="2873" y="197"/>
                      <a:pt x="3016" y="227"/>
                    </a:cubicBezTo>
                    <a:cubicBezTo>
                      <a:pt x="3159" y="257"/>
                      <a:pt x="3288" y="363"/>
                      <a:pt x="3424" y="408"/>
                    </a:cubicBezTo>
                    <a:cubicBezTo>
                      <a:pt x="3560" y="453"/>
                      <a:pt x="3711" y="484"/>
                      <a:pt x="3832" y="499"/>
                    </a:cubicBezTo>
                    <a:cubicBezTo>
                      <a:pt x="3953" y="514"/>
                      <a:pt x="4067" y="522"/>
                      <a:pt x="4150" y="499"/>
                    </a:cubicBezTo>
                    <a:cubicBezTo>
                      <a:pt x="4233" y="476"/>
                      <a:pt x="4278" y="424"/>
                      <a:pt x="4331" y="363"/>
                    </a:cubicBezTo>
                    <a:cubicBezTo>
                      <a:pt x="4384" y="302"/>
                      <a:pt x="4414" y="196"/>
                      <a:pt x="4467" y="136"/>
                    </a:cubicBezTo>
                    <a:cubicBezTo>
                      <a:pt x="4520" y="76"/>
                      <a:pt x="4619" y="23"/>
                      <a:pt x="4649" y="0"/>
                    </a:cubicBezTo>
                  </a:path>
                </a:pathLst>
              </a:custGeom>
              <a:noFill/>
              <a:ln w="5079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1291600">
                <a:off x="971640" y="2925360"/>
                <a:ext cx="7380000" cy="4680000"/>
              </a:xfrm>
              <a:custGeom>
                <a:avLst/>
                <a:gdLst/>
                <a:ahLst/>
                <a:rect l="l" t="t" r="r" b="b"/>
                <a:pathLst>
                  <a:path w="4649" h="2948">
                    <a:moveTo>
                      <a:pt x="567" y="2948"/>
                    </a:moveTo>
                    <a:cubicBezTo>
                      <a:pt x="351" y="2574"/>
                      <a:pt x="136" y="2200"/>
                      <a:pt x="68" y="1905"/>
                    </a:cubicBezTo>
                    <a:cubicBezTo>
                      <a:pt x="0" y="1610"/>
                      <a:pt x="29" y="1300"/>
                      <a:pt x="158" y="1179"/>
                    </a:cubicBezTo>
                    <a:cubicBezTo>
                      <a:pt x="287" y="1058"/>
                      <a:pt x="620" y="1096"/>
                      <a:pt x="839" y="1179"/>
                    </a:cubicBezTo>
                    <a:cubicBezTo>
                      <a:pt x="1058" y="1262"/>
                      <a:pt x="1285" y="1534"/>
                      <a:pt x="1474" y="1678"/>
                    </a:cubicBezTo>
                    <a:cubicBezTo>
                      <a:pt x="1663" y="1822"/>
                      <a:pt x="1822" y="1950"/>
                      <a:pt x="1973" y="2041"/>
                    </a:cubicBezTo>
                    <a:cubicBezTo>
                      <a:pt x="2124" y="2132"/>
                      <a:pt x="2268" y="2193"/>
                      <a:pt x="2381" y="2223"/>
                    </a:cubicBezTo>
                    <a:cubicBezTo>
                      <a:pt x="2494" y="2253"/>
                      <a:pt x="2555" y="2246"/>
                      <a:pt x="2653" y="2223"/>
                    </a:cubicBezTo>
                    <a:cubicBezTo>
                      <a:pt x="2751" y="2200"/>
                      <a:pt x="2911" y="2177"/>
                      <a:pt x="2971" y="2086"/>
                    </a:cubicBezTo>
                    <a:cubicBezTo>
                      <a:pt x="3031" y="1995"/>
                      <a:pt x="3024" y="1814"/>
                      <a:pt x="3016" y="1678"/>
                    </a:cubicBezTo>
                    <a:cubicBezTo>
                      <a:pt x="3008" y="1542"/>
                      <a:pt x="2978" y="1376"/>
                      <a:pt x="2925" y="1270"/>
                    </a:cubicBezTo>
                    <a:cubicBezTo>
                      <a:pt x="2872" y="1164"/>
                      <a:pt x="2804" y="1134"/>
                      <a:pt x="2698" y="1043"/>
                    </a:cubicBezTo>
                    <a:cubicBezTo>
                      <a:pt x="2592" y="952"/>
                      <a:pt x="2373" y="817"/>
                      <a:pt x="2290" y="726"/>
                    </a:cubicBezTo>
                    <a:cubicBezTo>
                      <a:pt x="2207" y="635"/>
                      <a:pt x="2199" y="567"/>
                      <a:pt x="2199" y="499"/>
                    </a:cubicBezTo>
                    <a:cubicBezTo>
                      <a:pt x="2199" y="431"/>
                      <a:pt x="2230" y="362"/>
                      <a:pt x="2290" y="317"/>
                    </a:cubicBezTo>
                    <a:cubicBezTo>
                      <a:pt x="2350" y="272"/>
                      <a:pt x="2441" y="242"/>
                      <a:pt x="2562" y="227"/>
                    </a:cubicBezTo>
                    <a:cubicBezTo>
                      <a:pt x="2683" y="212"/>
                      <a:pt x="2873" y="197"/>
                      <a:pt x="3016" y="227"/>
                    </a:cubicBezTo>
                    <a:cubicBezTo>
                      <a:pt x="3159" y="257"/>
                      <a:pt x="3288" y="363"/>
                      <a:pt x="3424" y="408"/>
                    </a:cubicBezTo>
                    <a:cubicBezTo>
                      <a:pt x="3560" y="453"/>
                      <a:pt x="3711" y="484"/>
                      <a:pt x="3832" y="499"/>
                    </a:cubicBezTo>
                    <a:cubicBezTo>
                      <a:pt x="3953" y="514"/>
                      <a:pt x="4067" y="522"/>
                      <a:pt x="4150" y="499"/>
                    </a:cubicBezTo>
                    <a:cubicBezTo>
                      <a:pt x="4233" y="476"/>
                      <a:pt x="4278" y="424"/>
                      <a:pt x="4331" y="363"/>
                    </a:cubicBezTo>
                    <a:cubicBezTo>
                      <a:pt x="4384" y="302"/>
                      <a:pt x="4414" y="196"/>
                      <a:pt x="4467" y="136"/>
                    </a:cubicBezTo>
                    <a:cubicBezTo>
                      <a:pt x="4520" y="76"/>
                      <a:pt x="4619" y="23"/>
                      <a:pt x="4649" y="0"/>
                    </a:cubicBezTo>
                  </a:path>
                </a:pathLst>
              </a:custGeom>
              <a:noFill/>
              <a:ln w="10152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rot="1326000">
              <a:off x="7380000" y="1844280"/>
              <a:ext cx="1295280" cy="1224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04000" y="476280"/>
            <a:ext cx="2160720" cy="576360"/>
          </a:xfrm>
          <a:prstGeom prst="roundRect">
            <a:avLst>
              <a:gd name="adj" fmla="val 16667"/>
            </a:avLst>
          </a:prstGeom>
          <a:solidFill>
            <a:srgbClr val="007af4"/>
          </a:soli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dddddd"/>
                </a:solidFill>
                <a:latin typeface="Arial"/>
              </a:rPr>
              <a:t>Capital</a:t>
            </a:r>
            <a:r>
              <a:rPr b="1" lang="ro-RO" sz="1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dddddd"/>
                </a:solidFill>
                <a:latin typeface="Arial"/>
              </a:rPr>
              <a:t>CD</a:t>
            </a:r>
            <a:r>
              <a:rPr b="1" lang="fr-BE" sz="2400" spc="-1" strike="noStrike">
                <a:solidFill>
                  <a:srgbClr val="dddddd"/>
                </a:solidFill>
                <a:latin typeface="Arial"/>
              </a:rPr>
              <a:t>C</a:t>
            </a:r>
            <a:r>
              <a:rPr b="1" lang="fr-BE" sz="2400" spc="-1" strike="noStrike" baseline="30000">
                <a:solidFill>
                  <a:srgbClr val="ddddd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573360"/>
            <a:ext cx="1440000" cy="6145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4292640"/>
            <a:ext cx="1658880" cy="593280"/>
            <a:chOff x="0" y="4292640"/>
            <a:chExt cx="1658880" cy="593280"/>
          </a:xfrm>
        </p:grpSpPr>
        <p:sp>
          <p:nvSpPr>
            <p:cNvPr id="71" name=""/>
            <p:cNvSpPr/>
            <p:nvPr/>
          </p:nvSpPr>
          <p:spPr>
            <a:xfrm>
              <a:off x="0" y="4725720"/>
              <a:ext cx="514080" cy="160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320" y="4725720"/>
              <a:ext cx="514440" cy="160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7440" y="4508280"/>
              <a:ext cx="566640" cy="15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44440" y="4725720"/>
              <a:ext cx="514440" cy="160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000" y="4292640"/>
              <a:ext cx="360360" cy="144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8720" y="4292640"/>
              <a:ext cx="432000" cy="144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65080" y="4508280"/>
              <a:ext cx="566640" cy="158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76720" y="3933720"/>
            <a:ext cx="1090440" cy="378000"/>
            <a:chOff x="3276720" y="3933720"/>
            <a:chExt cx="1090440" cy="378000"/>
          </a:xfrm>
        </p:grpSpPr>
        <p:sp>
          <p:nvSpPr>
            <p:cNvPr id="79" name=""/>
            <p:cNvSpPr/>
            <p:nvPr/>
          </p:nvSpPr>
          <p:spPr>
            <a:xfrm>
              <a:off x="3276720" y="4151520"/>
              <a:ext cx="514080" cy="1602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21080" y="3933720"/>
              <a:ext cx="514440" cy="160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2720" y="4149720"/>
              <a:ext cx="514440" cy="1602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43280" y="3357720"/>
            <a:ext cx="1727280" cy="502920"/>
          </a:xfrm>
          <a:prstGeom prst="roundRect">
            <a:avLst>
              <a:gd name="adj" fmla="val 16667"/>
            </a:avLst>
          </a:prstGeom>
          <a:solidFill>
            <a:srgbClr val="0072e4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156360" y="1268280"/>
            <a:ext cx="1738440" cy="792360"/>
            <a:chOff x="6156360" y="1268280"/>
            <a:chExt cx="1738440" cy="792360"/>
          </a:xfrm>
        </p:grpSpPr>
        <p:sp>
          <p:nvSpPr>
            <p:cNvPr id="84" name=""/>
            <p:cNvSpPr/>
            <p:nvPr/>
          </p:nvSpPr>
          <p:spPr>
            <a:xfrm>
              <a:off x="6156360" y="1917720"/>
              <a:ext cx="514440" cy="142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35960" y="1916280"/>
              <a:ext cx="720720" cy="144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3280" y="1916280"/>
              <a:ext cx="360360" cy="144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48720" y="1700280"/>
              <a:ext cx="431640" cy="142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56360" y="1700280"/>
              <a:ext cx="720720" cy="1443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52000" y="1700280"/>
              <a:ext cx="426960" cy="144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56360" y="1484280"/>
              <a:ext cx="427320" cy="144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59640" y="1484280"/>
              <a:ext cx="427320" cy="1443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4720" y="1484280"/>
              <a:ext cx="720720" cy="144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80360" y="1268280"/>
              <a:ext cx="514440" cy="142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360" y="1268280"/>
              <a:ext cx="720720" cy="144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56360" y="1268280"/>
              <a:ext cx="360360" cy="144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850920" y="5661000"/>
            <a:ext cx="1090440" cy="378000"/>
            <a:chOff x="3850920" y="5661000"/>
            <a:chExt cx="1090440" cy="378000"/>
          </a:xfrm>
        </p:grpSpPr>
        <p:sp>
          <p:nvSpPr>
            <p:cNvPr id="97" name=""/>
            <p:cNvSpPr/>
            <p:nvPr/>
          </p:nvSpPr>
          <p:spPr>
            <a:xfrm flipH="1">
              <a:off x="4427280" y="5878800"/>
              <a:ext cx="514080" cy="160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282200" y="5661000"/>
              <a:ext cx="514440" cy="1605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850560" y="5877000"/>
              <a:ext cx="514440" cy="160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76720" y="5013360"/>
            <a:ext cx="2016000" cy="61416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 locul de mun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5157720"/>
            <a:ext cx="841320" cy="920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164360" y="2852640"/>
            <a:ext cx="1979640" cy="6145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Non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40720" y="3573360"/>
            <a:ext cx="1090440" cy="378000"/>
            <a:chOff x="7740720" y="3573360"/>
            <a:chExt cx="1090440" cy="378000"/>
          </a:xfrm>
        </p:grpSpPr>
        <p:sp>
          <p:nvSpPr>
            <p:cNvPr id="104" name=""/>
            <p:cNvSpPr/>
            <p:nvPr/>
          </p:nvSpPr>
          <p:spPr>
            <a:xfrm>
              <a:off x="7740720" y="3791160"/>
              <a:ext cx="514080" cy="1602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85080" y="3573360"/>
              <a:ext cx="514440" cy="160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16720" y="3789360"/>
              <a:ext cx="514440" cy="1602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763640" y="64911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noştinţe, deprinderi, competenţe soc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07052 C 0.02465 -0.0881 0.01909 -0.06706 0.02569 -0.08463 C 0.02656 -0.08671 0.02604 -0.08995 0.02743 -0.09156 C 0.02882 -0.09341 0.03107 -0.09318 0.03281 -0.09388 C 0.04201 -0.10659 0.05 -0.10012 0.06441 -0.09873 C 0.08281 -0.09341 0.09045 -0.0918 0.10642 -0.07769 C 0.11371 -0.07122 0.12587 -0.06937 0.13455 -0.0659 C 0.14253 -0.06266 0.14948 -0.05781 0.15729 -0.05434 C 0.15972 -0.0511 0.16198 -0.0481 0.16441 -0.04486 C 0.1658 -0.04301 0.16614 -0.03954 0.16788 -0.03792 C 0.16979 -0.03607 0.17257 -0.0363 0.17482 -0.03561 C 0.17795 -0.03284 0.18038 -0.02867 0.18368 -0.02613 C 0.18923 -0.02151 0.19861 -0.01711 0.20468 -0.01457 C 0.20642 -0.01388 0.20816 -0.01295 0.20989 -0.01226 C 0.21163 -0.01156 0.21528 -0.00995 0.21528 -0.00995 C 0.21649 -0.00833 0.21718 -0.00602 0.21875 -0.00509 C 0.22205 -0.00278 0.22934 -0.00047 0.22934 -0.00047 C 0.24427 0.01271 0.22534 -0.00301 0.23975 0.00647 C 0.24548 0.0104 0.24757 0.01549 0.25382 0.01826 C 0.25903 0.0252 0.26267 0.02913 0.26962 0.03213 C 0.2776 0.04346 0.29218 0.04624 0.30295 0.05086 C 0.30486 0.05179 0.30625 0.05433 0.30816 0.05549 C 0.31284 0.05849 0.31423 0.05687 0.31875 0.06034 C 0.31996 0.06127 0.33125 0.07144 0.33455 0.07422 C 0.33767 0.07699 0.33993 0.08138 0.34323 0.0837 C 0.34982 0.08809 0.35885 0.09063 0.36614 0.09294 C 0.39409 0.11791 0.41458 0.11884 0.44861 0.12092 C 0.46632 0.11976 0.49184 0.1237 0.50816 0.10936 C 0.50989 0.10219 0.51371 0.08069 0.51701 0.07422 C 0.51823 0.0719 0.51962 0.06982 0.52048 0.06728 C 0.52517 0.05318 0.52743 0.03745 0.53107 0.02289 C 0.52882 -0.00948 0.525 -0.02405 0.51163 -0.04948 C 0.50694 -0.0585 0.5033 -0.06752 0.49774 -0.07538 C 0.49531 -0.08509 0.48993 -0.09295 0.48368 -0.09873 C 0.47413 -0.11792 0.48698 -0.09411 0.47482 -0.11029 C 0.46128 -0.12833 0.47708 -0.11307 0.46441 -0.1244 C 0.45989 -0.13295 0.45451 -0.14336 0.44687 -0.14775 C 0.4434 -0.14983 0.43628 -0.15237 0.43628 -0.15237 C 0.43142 -0.16209 0.4243 -0.16694 0.41701 -0.17341 C 0.41267 -0.17735 0.40295 -0.18266 0.40295 -0.18266 C 0.39826 -0.18914 0.39218 -0.19099 0.38715 -0.19677 C 0.38403 -0.20047 0.38125 -0.20463 0.3783 -0.20856 C 0.37482 -0.21318 0.37135 -0.21781 0.36788 -0.22243 C 0.36614 -0.22474 0.36267 -0.22937 0.36267 -0.22937 C 0.35659 -0.25272 0.35642 -0.24763 0.36076 -0.28324 C 0.36111 -0.28555 0.36337 -0.28625 0.36441 -0.28787 C 0.36632 -0.29087 0.36736 -0.2948 0.36962 -0.29735 C 0.37465 -0.30313 0.38941 -0.31307 0.396 -0.31584 C 0.40208 -0.32417 0.39791 -0.32 0.40989 -0.32532 C 0.41441 -0.3274 0.42396 -0.32995 0.42396 -0.32995 C 0.46007 -0.32671 0.49201 -0.3244 0.52934 -0.32301 C 0.54531 -0.32 0.55903 -0.30844 0.57482 -0.30428 C 0.58854 -0.30058 0.596 -0.29896 0.61163 -0.29735 C 0.63298 -0.29133 0.62343 -0.29295 0.66267 -0.29735 C 0.66979 -0.29804 0.68368 -0.30197 0.68368 -0.30197 C 0.69618 -0.30752 0.69097 -0.30405 0.69948 -0.31122 C 0.70312 -0.31885 0.70607 -0.32717 0.70989 -0.33457 C 0.71528 -0.34498 0.71232 -0.33226 0.71701 -0.34636 C 0.7217 -0.36047 0.72396 -0.37619 0.72743 -0.39076 C 0.73003 -0.42289 0.72812 -0.45295 0.72222 -0.48417 C 0.721 -0.49804 0.72014 -0.51076 0.71701 -0.52393 C 0.71562 -0.54336 0.71337 -0.55908 0.70989 -0.57758 C 0.70937 -0.57526 0.70816 -0.57318 0.70816 -0.57064 C 0.70816 -0.5681 0.70989 -0.5637 0.70989 -0.5637 E">
                                      <p:cBhvr>
                                        <p:cTn id="11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539640" y="2997360"/>
            <a:ext cx="7847280" cy="1008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uncte de credit pentru calificări şi unităţi de competenţ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u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39640" y="1989000"/>
            <a:ext cx="7848720" cy="86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alificare structurată 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2160" indent="-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unităţi de competenţ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280" y="5516640"/>
            <a:ext cx="7848360" cy="79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Ghidur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entru unităţi de competenţe, puncte de credit, rezultate ale învăţări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9640" y="907920"/>
            <a:ext cx="7847280" cy="9367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valuarea, Validarea, Recunoaşte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şi Transferul rezultatelor învăţă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4149720"/>
            <a:ext cx="7848720" cy="1224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22160" indent="-369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andum de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înţelegere pentru încrederea reciprocă între furnizorii de educaţie şi formare profesion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25720" y="404640"/>
            <a:ext cx="7118280" cy="6091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41360" y="1125360"/>
            <a:ext cx="197964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adrul European al calificărilor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Q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incipalele el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1268280"/>
            <a:ext cx="4318920" cy="4416120"/>
            <a:chOff x="3419640" y="1268280"/>
            <a:chExt cx="4318920" cy="441612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419640" y="3456720"/>
              <a:ext cx="2171880" cy="222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VALIDAREA ÎNVĂŢĂRII NONFORMALE"/>
            <p:cNvPicPr/>
            <p:nvPr/>
          </p:nvPicPr>
          <p:blipFill>
            <a:blip r:embed="rId3"/>
            <a:stretch/>
          </p:blipFill>
          <p:spPr>
            <a:xfrm>
              <a:off x="3419640" y="1268280"/>
              <a:ext cx="2185200" cy="22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5553360" y="1268280"/>
              <a:ext cx="2185200" cy="22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5553360" y="3456720"/>
              <a:ext cx="2185200" cy="222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98840" y="2297160"/>
              <a:ext cx="2286360" cy="2344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8 </a:t>
              </a:r>
              <a:r>
                <a:rPr b="1" lang="ro-RO" sz="1800" spc="-1" strike="noStrike">
                  <a:solidFill>
                    <a:srgbClr val="003399"/>
                  </a:solidFill>
                  <a:latin typeface="Arial"/>
                </a:rPr>
                <a:t>niveluri de referinţ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 ECVET: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118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843280" y="3860640"/>
            <a:ext cx="32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re oportunitatea de a învăţa pe parcursul unei anumite perio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2050920" y="3500280"/>
            <a:ext cx="841680" cy="920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71640" y="1341360"/>
            <a:ext cx="2376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 învăţare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1341360"/>
            <a:ext cx="237636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Context învăţar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841680" cy="92088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6588000" y="4797360"/>
            <a:ext cx="1513080" cy="649440"/>
            <a:chOff x="6588000" y="4797360"/>
            <a:chExt cx="1513080" cy="649440"/>
          </a:xfrm>
        </p:grpSpPr>
        <p:sp>
          <p:nvSpPr>
            <p:cNvPr id="132" name=""/>
            <p:cNvSpPr/>
            <p:nvPr/>
          </p:nvSpPr>
          <p:spPr>
            <a:xfrm>
              <a:off x="6588000" y="5157720"/>
              <a:ext cx="720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80360" y="515772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46920" y="4797360"/>
              <a:ext cx="720720" cy="289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967280" y="55897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l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obândeşte anumite rezultate în procesul de învăţare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.O.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137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43280" y="3860640"/>
            <a:ext cx="3384360" cy="12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re oportunitatea de a învăţa pe parcursul unei anumite perioa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 afara ţării de origin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336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CVET: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italy_fl_md_clr.gif"/>
          <p:cNvPicPr/>
          <p:nvPr/>
        </p:nvPicPr>
        <p:blipFill>
          <a:blip r:embed="rId13"/>
          <a:stretch/>
        </p:blipFill>
        <p:spPr>
          <a:xfrm>
            <a:off x="3419640" y="206064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great_britain_fl_md_clr.gif"/>
          <p:cNvPicPr/>
          <p:nvPr/>
        </p:nvPicPr>
        <p:blipFill>
          <a:blip r:embed="rId14"/>
          <a:stretch/>
        </p:blipFill>
        <p:spPr>
          <a:xfrm>
            <a:off x="8101080" y="1989000"/>
            <a:ext cx="777960" cy="863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1628640"/>
            <a:ext cx="2376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 învăţar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1628640"/>
            <a:ext cx="237636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Context învăţar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21965E-006 L 0.50191 -0.00462 E">
                                      <p:cBhvr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H="1">
            <a:off x="2771280" y="3860640"/>
            <a:ext cx="35290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084720" y="5300640"/>
            <a:ext cx="1513080" cy="649440"/>
            <a:chOff x="6084720" y="5300640"/>
            <a:chExt cx="1513080" cy="649440"/>
          </a:xfrm>
        </p:grpSpPr>
        <p:sp>
          <p:nvSpPr>
            <p:cNvPr id="153" name=""/>
            <p:cNvSpPr/>
            <p:nvPr/>
          </p:nvSpPr>
          <p:spPr>
            <a:xfrm>
              <a:off x="6084720" y="5661000"/>
              <a:ext cx="720720" cy="28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77080" y="5661000"/>
              <a:ext cx="720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43640" y="530064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 flipH="1">
            <a:off x="6443280" y="3500280"/>
            <a:ext cx="84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158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0" y="3357720"/>
            <a:ext cx="201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cum, Dl X vrea să transfere “acasă” noil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L.O.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entru a le includ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 califi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 E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CVET: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6021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.O.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dobândite şi evaluate/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great_britain_fl_md_clr.gif"/>
          <p:cNvPicPr/>
          <p:nvPr/>
        </p:nvPicPr>
        <p:blipFill>
          <a:blip r:embed="rId13"/>
          <a:stretch/>
        </p:blipFill>
        <p:spPr>
          <a:xfrm>
            <a:off x="8101080" y="227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italy_fl_md_clr.gif"/>
          <p:cNvPicPr/>
          <p:nvPr/>
        </p:nvPicPr>
        <p:blipFill>
          <a:blip r:embed="rId14"/>
          <a:stretch/>
        </p:blipFill>
        <p:spPr>
          <a:xfrm>
            <a:off x="3203640" y="2205000"/>
            <a:ext cx="936720" cy="863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1700280"/>
            <a:ext cx="2376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ul de învăţare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628640"/>
            <a:ext cx="237636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Contextul de învăţare</a:t>
            </a:r>
            <a:r>
              <a:rPr b="1" lang="fr-BE" sz="2400" spc="-1" strike="noStrike">
                <a:solidFill>
                  <a:srgbClr val="99cc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2771280" y="3860640"/>
            <a:ext cx="35290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084720" y="5300640"/>
            <a:ext cx="1513080" cy="649440"/>
            <a:chOff x="6084720" y="5300640"/>
            <a:chExt cx="1513080" cy="649440"/>
          </a:xfrm>
        </p:grpSpPr>
        <p:sp>
          <p:nvSpPr>
            <p:cNvPr id="175" name=""/>
            <p:cNvSpPr/>
            <p:nvPr/>
          </p:nvSpPr>
          <p:spPr>
            <a:xfrm>
              <a:off x="6084720" y="5661000"/>
              <a:ext cx="720720" cy="28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7080" y="5661000"/>
              <a:ext cx="720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43640" y="530064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 ECVET: 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 flipH="1">
            <a:off x="6443280" y="3500280"/>
            <a:ext cx="841320" cy="9208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181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24360" y="2421000"/>
            <a:ext cx="1942920" cy="3240000"/>
            <a:chOff x="3924360" y="2421000"/>
            <a:chExt cx="1942920" cy="3240000"/>
          </a:xfrm>
        </p:grpSpPr>
        <p:sp>
          <p:nvSpPr>
            <p:cNvPr id="190" name=""/>
            <p:cNvSpPr/>
            <p:nvPr/>
          </p:nvSpPr>
          <p:spPr>
            <a:xfrm>
              <a:off x="3924360" y="2421000"/>
              <a:ext cx="1942920" cy="316872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924360" y="2492280"/>
              <a:ext cx="1727280" cy="3168720"/>
            </a:xfrm>
            <a:prstGeom prst="line">
              <a:avLst/>
            </a:prstGeom>
            <a:ln w="152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3716280"/>
            <a:ext cx="219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ar nu poate să facă asta, datorită barierelor întâmpinat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6021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.O. 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dobândite şi evaluate/ cert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italy_fl_md_clr.gif"/>
          <p:cNvPicPr/>
          <p:nvPr/>
        </p:nvPicPr>
        <p:blipFill>
          <a:blip r:embed="rId13"/>
          <a:stretch/>
        </p:blipFill>
        <p:spPr>
          <a:xfrm>
            <a:off x="3132000" y="2133720"/>
            <a:ext cx="71928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reat_britain_fl_md_clr.gif"/>
          <p:cNvPicPr/>
          <p:nvPr/>
        </p:nvPicPr>
        <p:blipFill>
          <a:blip r:embed="rId14"/>
          <a:stretch/>
        </p:blipFill>
        <p:spPr>
          <a:xfrm>
            <a:off x="8101080" y="1989000"/>
            <a:ext cx="777960" cy="863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9640" y="1700280"/>
            <a:ext cx="237672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învăţare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1628640"/>
            <a:ext cx="2376360" cy="1015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învăţare</a:t>
            </a:r>
            <a:r>
              <a:rPr b="1" lang="fr-BE" sz="2400" spc="-1" strike="noStrike">
                <a:solidFill>
                  <a:srgbClr val="99cc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Bar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1773360"/>
            <a:ext cx="424836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recunoaşter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L.O. ca achiziţii anterioare de învăţar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sa procedurii de validare a L.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sa posibilităţii de transferare a achiziţiilor de învăţ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sa încrederii şi a consens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7450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084720" y="5300640"/>
            <a:ext cx="1513080" cy="649440"/>
            <a:chOff x="6084720" y="5300640"/>
            <a:chExt cx="1513080" cy="649440"/>
          </a:xfrm>
        </p:grpSpPr>
        <p:sp>
          <p:nvSpPr>
            <p:cNvPr id="203" name=""/>
            <p:cNvSpPr/>
            <p:nvPr/>
          </p:nvSpPr>
          <p:spPr>
            <a:xfrm>
              <a:off x="6084720" y="5661000"/>
              <a:ext cx="720720" cy="289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77080" y="5661000"/>
              <a:ext cx="720720" cy="289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3640" y="5300640"/>
              <a:ext cx="720720" cy="289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copul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ECVET: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 flipH="1">
            <a:off x="6227280" y="3500280"/>
            <a:ext cx="841320" cy="9208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435640" y="602136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L.O.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 dobândite şi evaluate/ certificate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71640" y="4941720"/>
            <a:ext cx="3671640" cy="1008360"/>
            <a:chOff x="971640" y="4941720"/>
            <a:chExt cx="3671640" cy="1008360"/>
          </a:xfrm>
        </p:grpSpPr>
        <p:sp>
          <p:nvSpPr>
            <p:cNvPr id="210" name=""/>
            <p:cNvSpPr/>
            <p:nvPr/>
          </p:nvSpPr>
          <p:spPr>
            <a:xfrm>
              <a:off x="971640" y="5661000"/>
              <a:ext cx="936360" cy="2890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79640" y="5661000"/>
              <a:ext cx="504720" cy="289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56000" y="5661000"/>
              <a:ext cx="720720" cy="2890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48000" y="5661000"/>
              <a:ext cx="1295280" cy="289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2920" y="5300640"/>
              <a:ext cx="1009800" cy="2890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24000" y="5300640"/>
              <a:ext cx="720720" cy="2890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5300640"/>
              <a:ext cx="1368360" cy="2890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19280" y="4941720"/>
              <a:ext cx="720720" cy="2890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4000" y="3357720"/>
            <a:ext cx="21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CVET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seamnă că Dl X poate transfera “acasă” noil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L.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great_britain_fl_md_clr.gif"/>
          <p:cNvPicPr/>
          <p:nvPr/>
        </p:nvPicPr>
        <p:blipFill>
          <a:blip r:embed="rId13"/>
          <a:stretch/>
        </p:blipFill>
        <p:spPr>
          <a:xfrm>
            <a:off x="7956720" y="2133720"/>
            <a:ext cx="936360" cy="863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italy_fl_md_clr.gif"/>
          <p:cNvPicPr/>
          <p:nvPr/>
        </p:nvPicPr>
        <p:blipFill>
          <a:blip r:embed="rId14"/>
          <a:stretch/>
        </p:blipFill>
        <p:spPr>
          <a:xfrm>
            <a:off x="3132000" y="1989000"/>
            <a:ext cx="719280" cy="952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11280" y="1700280"/>
            <a:ext cx="23763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ntextul de învăţare</a:t>
            </a:r>
            <a:r>
              <a:rPr b="1" lang="fr-BE" sz="2400" spc="-1" strike="noStrike">
                <a:solidFill>
                  <a:srgbClr val="ff00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628640"/>
            <a:ext cx="2376360" cy="8254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cc00"/>
                </a:solidFill>
                <a:latin typeface="Arial"/>
              </a:rPr>
              <a:t>Contextul de învăţare</a:t>
            </a:r>
            <a:r>
              <a:rPr b="1" lang="fr-BE" sz="2400" spc="-1" strike="noStrike">
                <a:solidFill>
                  <a:srgbClr val="99cc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16 -0.00416 L -0.46563 -0.00416 E">
                                      <p:cBhvr>
                                        <p:cTn id="76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-0.06798 C -0.04687 -0.08994 -0.06371 -0.11191 -0.08628 -0.12971 C -0.10868 -0.14774 -0.13889 -0.16532 -0.16528 -0.17595 C -0.19184 -0.18636 -0.21996 -0.19168 -0.24444 -0.19283 C -0.26892 -0.19399 -0.28958 -0.19098 -0.31198 -0.18266 C -0.33455 -0.17433 -0.36545 -0.15676 -0.37969 -0.14335 C -0.3941 -0.13017 -0.39479 -0.10959 -0.39774 -0.10243 E">
                                      <p:cBhvr>
                                        <p:cTn id="80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8:20:54Z</dcterms:created>
  <dc:creator>John Macdonald</dc:creator>
  <dc:description/>
  <dc:language>en-US</dc:language>
  <cp:lastModifiedBy>Serban Madlen</cp:lastModifiedBy>
  <dcterms:modified xsi:type="dcterms:W3CDTF">2007-01-18T11:30:13Z</dcterms:modified>
  <cp:revision>200</cp:revision>
  <dc:subject/>
  <dc:title>European Credit for  Vocational Education and Training</dc:title>
</cp:coreProperties>
</file>